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2C3-C071-4E0A-B657-5C1C1C60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828-95F1-495D-B2CD-5504062D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F5B-BF2A-4174-A0E5-A98F983F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CC8-9A5D-4C89-A0B3-18A54ACD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FB7-07C1-4F48-B263-926E0F2B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955-4002-41F7-A06E-13A5700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BD1C-53CD-41E1-9605-FFCB02B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91C3-0255-4275-9646-149479F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1E56-FAAF-40AE-B8EE-D6F37CB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BAF3-75F9-48FD-86E7-D3DFDD75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C980-E2FA-48AF-BA45-4EC2C20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C7C-5E84-421F-880D-F204268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E6FE-F9AD-4CBD-9A62-3FFBB27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BC23-C60D-48C7-8C00-1CA7189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16A-2AFB-4DE7-A74E-AD540D3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6389-6D06-448A-BE6E-BDB7389C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B25E-D3D6-44DC-996D-A73737DE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011-4719-4EB4-8C26-33297ECE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69C-F2B8-479B-AB0B-B752FE2B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9CB-A7D1-49D4-8264-BB248B4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335-2726-4CB2-BBD3-A330A0D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FEF-0E8A-46A8-9C60-48104ED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735-282A-4F0E-9916-D2BCE3F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27D-587F-4D27-8716-A95AD91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36A5-44ED-4639-9EE6-5F426ACACC1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581-FD39-4128-857C-7E13A4D8A5A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545840"/>
            <a:ext cx="7848720" cy="15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Ликвидация несанкционированных свалок </a:t>
            </a:r>
            <a:br>
              <a:rPr sz="2800"/>
            </a:b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в 2012 году</a:t>
            </a:r>
            <a:br>
              <a:rPr sz="28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Picture 5" descr="Logo"/>
          <p:cNvPicPr/>
          <p:nvPr/>
        </p:nvPicPr>
        <p:blipFill>
          <a:blip r:embed="rId1"/>
          <a:stretch/>
        </p:blipFill>
        <p:spPr>
          <a:xfrm>
            <a:off x="539640" y="404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2552400" y="692280"/>
            <a:ext cx="38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d7a"/>
                </a:solidFill>
                <a:latin typeface="Times New Roman"/>
              </a:rPr>
              <a:t>Правительство Пермского кра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932360" y="4941720"/>
            <a:ext cx="38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Начальник Государственной инспекции по экологии и природопользованию Пермского кра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В.Г. Лазепный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109240" y="549360"/>
            <a:ext cx="56062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истема мер по предотвращению загрязнения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территории Пермского кра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79280" y="1700280"/>
            <a:ext cx="360072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Ликвидация стихийных свалок и мест несанкционированного размещения отходов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427640" y="1628640"/>
            <a:ext cx="4537080" cy="131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Обеспечение нормативного обращени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 отходами на территории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муниципальных образований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572000" y="33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Инвентаризация объектов размещения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отходов;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572000" y="400536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Обеспечение функционирования схем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санитарной очистки территорий;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500720" y="4732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Приведение в соответствие нормативным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требованиям объектов размещения отходов;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572000" y="558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ывод из эксплуатации, объектов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размещения отходов, расположенных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 водоохранных зонах, населенных пунктах и т.д..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4211640" y="29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211640" y="292428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421164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211640" y="4941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11640" y="422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79280" y="4005360"/>
            <a:ext cx="1764000" cy="947520"/>
          </a:xfrm>
          <a:prstGeom prst="rect">
            <a:avLst/>
          </a:prstGeom>
          <a:solidFill>
            <a:srgbClr val="c9dd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Контрольно -надзорные мероприятия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050920" y="4076640"/>
            <a:ext cx="2016360" cy="1191240"/>
          </a:xfrm>
          <a:prstGeom prst="rect">
            <a:avLst/>
          </a:prstGeom>
          <a:solidFill>
            <a:srgbClr val="c9dd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Очистка территории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муниципальных образований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1042920" y="3024360"/>
            <a:ext cx="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3132000" y="3024360"/>
            <a:ext cx="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3059280" y="12682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6588000" y="1557360"/>
            <a:ext cx="0" cy="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6877080" y="126828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000" y="1052640"/>
            <a:ext cx="856764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ручение Президента Российской Федерации от 6 июня 2010  № ПР-1640 ГС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«О проведении инвентаризации учета объектов накопленного экологического ущерба и разработки комплекса мер по его ликвидации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544-21B7-42C4-8E5E-43F9867CA97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Выявление несанкционированных свалок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9992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ы местного самоуправление (муниципальных районов, городских округов и сельских и городских поселений)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– проведение обследования территорий, организация работ по ликвидаци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Государственная инспекция по экологии и природопользованию Пермского края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– проведение рейдовых проверок, административные расследования по обращениям граждан, направление требований  по ликвидации свалок, привлечение к административной ответствен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Управление Росприроднадзора по Пермскому краю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проведение рейдовых проверок, административные расследования по обращениям граждан, направление требований  по ликвидации свалок, привлечение к административной ответствен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Граждане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– передача информации в контролирующие органы и органы местного самоуправлени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F8B-103A-4177-AB20-ED69BE87AF0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Деятельность Инспекции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Государственной инспекцией по экологии и природопользованию Пермского края проведено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34 рейдовых проверок  на территории 25 муниципальных образований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выявлено  - 144 свалк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проведено - 21 административное расследование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к административной ответственности привлечено: 10 юридических лиц, 11 физических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бщая сумма штрафов составила – 761000 рублей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D5B3-5840-44DA-8181-EA3E2E880A1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Результаты проведения мероприятий по ликвидации несанкционированных свалок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2101680"/>
          <a:ext cx="8083440" cy="1381320"/>
        </p:xfrm>
        <a:graphic>
          <a:graphicData uri="http://schemas.openxmlformats.org/drawingml/2006/table">
            <a:tbl>
              <a:tblPr/>
              <a:tblGrid>
                <a:gridCol w="792000"/>
                <a:gridCol w="1295640"/>
                <a:gridCol w="1657440"/>
                <a:gridCol w="1366560"/>
                <a:gridCol w="1676520"/>
                <a:gridCol w="12952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явлено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квидировано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цент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11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93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7,9 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20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2,04 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3%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12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34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4,7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37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7,9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0%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  <p:sp>
        <p:nvSpPr>
          <p:cNvPr id="125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2AF0-6E77-43E3-BF41-366F7E95F84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Свалки"/>
          <p:cNvPicPr/>
          <p:nvPr/>
        </p:nvPicPr>
        <p:blipFill>
          <a:blip r:embed="rId1"/>
          <a:stretch/>
        </p:blipFill>
        <p:spPr>
          <a:xfrm>
            <a:off x="611280" y="1197000"/>
            <a:ext cx="4105080" cy="5661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Га"/>
          <p:cNvPicPr/>
          <p:nvPr/>
        </p:nvPicPr>
        <p:blipFill>
          <a:blip r:embed="rId2"/>
          <a:stretch/>
        </p:blipFill>
        <p:spPr>
          <a:xfrm>
            <a:off x="4865760" y="1125360"/>
            <a:ext cx="4278240" cy="5732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258920" y="836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580000" y="981000"/>
            <a:ext cx="244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46920" y="333360"/>
            <a:ext cx="348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Количество выявленных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тихийных свалок в разрезе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городов и районов</a:t>
            </a: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33360"/>
            <a:ext cx="387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Площади занятые стихийными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валками в разрезе городов и районов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0920" y="115560"/>
            <a:ext cx="8227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МС активно участвующие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ерезник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оликамск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обря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ктябрь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ерм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Чайков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рдинский район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тстающие районы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Юрли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лов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Юсьве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си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Черды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уеди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Горнозавод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Губахинский район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63C-F04A-481B-AC06-0E4513914BE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Karikatur Kopf Tonne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375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1042920" y="32288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 !</a:t>
            </a:r>
            <a:endParaRPr b="1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29:03Z</dcterms:created>
  <dc:creator>user</dc:creator>
  <dc:description/>
  <dc:language>en-US</dc:language>
  <cp:lastModifiedBy>Куркина О.Г.</cp:lastModifiedBy>
  <cp:lastPrinted>2012-12-06T03:53:09Z</cp:lastPrinted>
  <dcterms:modified xsi:type="dcterms:W3CDTF">2012-12-07T10:06:15Z</dcterms:modified>
  <cp:revision>568</cp:revision>
  <dc:subject/>
  <dc:title>Основная задача</dc:title>
</cp:coreProperties>
</file>