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6FEC-44CB-4EC0-A8B4-E643E8AC5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8A5A-2C05-48FD-A238-B8DE60E54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441A-2653-4328-8320-63019C3DA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A180-1261-4F1D-8F20-142671CE8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8EC72-AD64-46D2-9420-70A44FFBE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A76CA-4EBD-4A57-A7DF-6B3C88E09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868F1-489A-4E82-9F22-74D3E9B97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E001F-6766-4C87-AC04-3E06C43EF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5DE16-C0F9-4008-B65B-D25A4A3E0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9FA78-03BE-473D-BDCF-6975C1464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B773A-9FA1-4133-9BC7-8D9AAAA9F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58A1-9B83-449B-B710-599E46050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DFAD0-346C-4860-A196-03DE64381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17DD6-7328-4CD3-8F7E-055D484C9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0AC93-93C5-4D3F-873A-6556CC1E6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AC0A5-5901-44FC-A83E-7EA797099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BC2B6-812A-4E9D-9B7F-8ECDFBA86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81D2-2F7A-486E-A310-C61CCF752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69FF-1907-427C-9A95-CC2C525DF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B4B1-B067-41C8-8634-274380B30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E610-E7AD-49C5-BA2E-E450D5422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52F8-45AF-4AE9-8E8C-0018B9985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80A3-F0C9-45D3-9A7F-F8B7D75C6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9857-19ED-4283-8663-8150AAA58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Picture 9" descr="anabnr2"/>
          <p:cNvPicPr/>
          <p:nvPr/>
        </p:nvPicPr>
        <p:blipFill>
          <a:blip r:embed="rId4"/>
          <a:stretch/>
        </p:blipFill>
        <p:spPr>
          <a:xfrm>
            <a:off x="1230480" y="0"/>
            <a:ext cx="79135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0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541C9-B973-4721-8C63-11A6C26D1233}" type="slidenum">
              <a:rPr b="0" lang="ru-RU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Picture 3" descr="ANABNR2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4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32BE3-2406-48F4-9C9C-ADA31AE3CC80}" type="slidenum">
              <a:rPr b="0" lang="ru-RU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5640" y="1545840"/>
            <a:ext cx="7848720" cy="152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2a3d7a"/>
                </a:solidFill>
                <a:latin typeface="Times New Roman"/>
              </a:rPr>
              <a:t>Ликвидация несанкционированных свалок </a:t>
            </a:r>
            <a:br>
              <a:rPr sz="2800"/>
            </a:br>
            <a:r>
              <a:rPr b="1" lang="ru-RU" sz="2800" spc="-1" strike="noStrike">
                <a:solidFill>
                  <a:srgbClr val="2a3d7a"/>
                </a:solidFill>
                <a:latin typeface="Times New Roman"/>
              </a:rPr>
              <a:t>в 2012 году</a:t>
            </a:r>
            <a:br>
              <a:rPr sz="2800"/>
            </a:br>
            <a:endParaRPr b="0" lang="en-US" sz="28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92" name="Picture 5" descr="Logo"/>
          <p:cNvPicPr/>
          <p:nvPr/>
        </p:nvPicPr>
        <p:blipFill>
          <a:blip r:embed="rId1"/>
          <a:stretch/>
        </p:blipFill>
        <p:spPr>
          <a:xfrm>
            <a:off x="539640" y="404640"/>
            <a:ext cx="1224000" cy="1224000"/>
          </a:xfrm>
          <a:prstGeom prst="rect">
            <a:avLst/>
          </a:prstGeom>
          <a:ln w="0">
            <a:noFill/>
          </a:ln>
        </p:spPr>
      </p:pic>
      <p:sp>
        <p:nvSpPr>
          <p:cNvPr id="93" name="Text Box 8"/>
          <p:cNvSpPr/>
          <p:nvPr/>
        </p:nvSpPr>
        <p:spPr>
          <a:xfrm>
            <a:off x="2552400" y="692280"/>
            <a:ext cx="388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a3d7a"/>
                </a:solidFill>
                <a:latin typeface="Times New Roman"/>
              </a:rPr>
              <a:t>Правительство Пермского края</a:t>
            </a:r>
            <a:endParaRPr b="1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4932360" y="4941720"/>
            <a:ext cx="38671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e0d0c"/>
                </a:solidFill>
                <a:latin typeface="Times New Roman"/>
              </a:rPr>
              <a:t>Начальник Государственной инспекции по экологии и природопользованию Пермского края</a:t>
            </a:r>
            <a:endParaRPr b="1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e0d0c"/>
                </a:solidFill>
                <a:latin typeface="Times New Roman"/>
              </a:rPr>
              <a:t>В.Г. Лазепный</a:t>
            </a:r>
            <a:endParaRPr b="1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5"/>
          <p:cNvSpPr/>
          <p:nvPr/>
        </p:nvSpPr>
        <p:spPr>
          <a:xfrm>
            <a:off x="2109240" y="549360"/>
            <a:ext cx="5606280" cy="703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e0d0c"/>
                </a:solidFill>
                <a:latin typeface="Times New Roman"/>
              </a:rPr>
              <a:t>Система мер по предотвращению загрязнения </a:t>
            </a:r>
            <a:endParaRPr b="1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e0d0c"/>
                </a:solidFill>
                <a:latin typeface="Times New Roman"/>
              </a:rPr>
              <a:t>территории Пермского края</a:t>
            </a:r>
            <a:endParaRPr b="1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179280" y="1700280"/>
            <a:ext cx="3600720" cy="1313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e0d0c"/>
                </a:solidFill>
                <a:latin typeface="Times New Roman"/>
              </a:rPr>
              <a:t>Ликвидация стихийных свалок и мест несанкционированного размещения отходов</a:t>
            </a:r>
            <a:endParaRPr b="1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4427640" y="1628640"/>
            <a:ext cx="4537080" cy="1313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e0d0c"/>
                </a:solidFill>
                <a:latin typeface="Times New Roman"/>
              </a:rPr>
              <a:t>Обеспечение нормативного обращения</a:t>
            </a:r>
            <a:endParaRPr b="1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e0d0c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e0d0c"/>
                </a:solidFill>
                <a:latin typeface="Times New Roman"/>
              </a:rPr>
              <a:t>с отходами на территории </a:t>
            </a:r>
            <a:endParaRPr b="1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e0d0c"/>
                </a:solidFill>
                <a:latin typeface="Times New Roman"/>
              </a:rPr>
              <a:t>муниципальных образований</a:t>
            </a:r>
            <a:endParaRPr b="1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4572000" y="335772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e0d0c"/>
                </a:solidFill>
                <a:latin typeface="Times New Roman"/>
              </a:rPr>
              <a:t>Инвентаризация объектов размещения </a:t>
            </a:r>
            <a:endParaRPr b="1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e0d0c"/>
                </a:solidFill>
                <a:latin typeface="Times New Roman"/>
              </a:rPr>
              <a:t>отходов;</a:t>
            </a:r>
            <a:endParaRPr b="1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9" name="Text Box 9"/>
          <p:cNvSpPr/>
          <p:nvPr/>
        </p:nvSpPr>
        <p:spPr>
          <a:xfrm>
            <a:off x="4572000" y="4005360"/>
            <a:ext cx="391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e0d0c"/>
                </a:solidFill>
                <a:latin typeface="Times New Roman"/>
              </a:rPr>
              <a:t>Обеспечение функционирования схем</a:t>
            </a:r>
            <a:endParaRPr b="1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e0d0c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e0d0c"/>
                </a:solidFill>
                <a:latin typeface="Times New Roman"/>
              </a:rPr>
              <a:t>санитарной очистки территорий;</a:t>
            </a:r>
            <a:endParaRPr b="1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0" name="Text Box 11"/>
          <p:cNvSpPr/>
          <p:nvPr/>
        </p:nvSpPr>
        <p:spPr>
          <a:xfrm>
            <a:off x="4500720" y="4732200"/>
            <a:ext cx="46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e0d0c"/>
                </a:solidFill>
                <a:latin typeface="Times New Roman"/>
              </a:rPr>
              <a:t>Приведение в соответствие нормативным </a:t>
            </a:r>
            <a:endParaRPr b="1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e0d0c"/>
                </a:solidFill>
                <a:latin typeface="Times New Roman"/>
              </a:rPr>
              <a:t>требованиям объектов размещения отходов;</a:t>
            </a:r>
            <a:endParaRPr b="1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1" name="Text Box 12"/>
          <p:cNvSpPr/>
          <p:nvPr/>
        </p:nvSpPr>
        <p:spPr>
          <a:xfrm>
            <a:off x="4572000" y="5589720"/>
            <a:ext cx="439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e0d0c"/>
                </a:solidFill>
                <a:latin typeface="Times New Roman"/>
              </a:rPr>
              <a:t>Вывод из эксплуатации, объектов </a:t>
            </a:r>
            <a:endParaRPr b="1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e0d0c"/>
                </a:solidFill>
                <a:latin typeface="Times New Roman"/>
              </a:rPr>
              <a:t>размещения отходов, расположенных</a:t>
            </a:r>
            <a:endParaRPr b="1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e0d0c"/>
                </a:solidFill>
                <a:latin typeface="Times New Roman"/>
              </a:rPr>
              <a:t>в водоохранных зонах, населенных пунктах и т.д..</a:t>
            </a:r>
            <a:endParaRPr b="1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2" name="Line 14"/>
          <p:cNvSpPr/>
          <p:nvPr/>
        </p:nvSpPr>
        <p:spPr>
          <a:xfrm flipH="1">
            <a:off x="4211640" y="2924280"/>
            <a:ext cx="21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3" name="Line 15"/>
          <p:cNvSpPr/>
          <p:nvPr/>
        </p:nvSpPr>
        <p:spPr>
          <a:xfrm>
            <a:off x="4211640" y="2924280"/>
            <a:ext cx="0" cy="3168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4" name="Line 16"/>
          <p:cNvSpPr/>
          <p:nvPr/>
        </p:nvSpPr>
        <p:spPr>
          <a:xfrm>
            <a:off x="4211640" y="6093000"/>
            <a:ext cx="358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5" name="Line 17"/>
          <p:cNvSpPr/>
          <p:nvPr/>
        </p:nvSpPr>
        <p:spPr>
          <a:xfrm>
            <a:off x="4211640" y="4941720"/>
            <a:ext cx="358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6" name="Line 18"/>
          <p:cNvSpPr/>
          <p:nvPr/>
        </p:nvSpPr>
        <p:spPr>
          <a:xfrm>
            <a:off x="4211640" y="4221000"/>
            <a:ext cx="431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7" name="Line 19"/>
          <p:cNvSpPr/>
          <p:nvPr/>
        </p:nvSpPr>
        <p:spPr>
          <a:xfrm>
            <a:off x="4211640" y="357336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8" name="Text Box 20"/>
          <p:cNvSpPr/>
          <p:nvPr/>
        </p:nvSpPr>
        <p:spPr>
          <a:xfrm>
            <a:off x="179280" y="4005360"/>
            <a:ext cx="1764000" cy="947520"/>
          </a:xfrm>
          <a:prstGeom prst="rect">
            <a:avLst/>
          </a:prstGeom>
          <a:solidFill>
            <a:srgbClr val="c9ddf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e0d0c"/>
                </a:solidFill>
                <a:latin typeface="Times New Roman"/>
              </a:rPr>
              <a:t>Контрольно -надзорные мероприятия</a:t>
            </a:r>
            <a:r>
              <a:rPr b="0" lang="ru-RU" sz="2000" spc="-1" strike="noStrike">
                <a:solidFill>
                  <a:srgbClr val="0e0d0c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9" name="Text Box 21"/>
          <p:cNvSpPr/>
          <p:nvPr/>
        </p:nvSpPr>
        <p:spPr>
          <a:xfrm>
            <a:off x="2050920" y="4076640"/>
            <a:ext cx="2016360" cy="1191240"/>
          </a:xfrm>
          <a:prstGeom prst="rect">
            <a:avLst/>
          </a:prstGeom>
          <a:solidFill>
            <a:srgbClr val="c9ddf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e0d0c"/>
                </a:solidFill>
                <a:latin typeface="Times New Roman"/>
              </a:rPr>
              <a:t>Очистка территории </a:t>
            </a:r>
            <a:endParaRPr b="1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e0d0c"/>
                </a:solidFill>
                <a:latin typeface="Times New Roman"/>
              </a:rPr>
              <a:t>муниципальных образований</a:t>
            </a:r>
            <a:endParaRPr b="1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0" name="Line 22"/>
          <p:cNvSpPr/>
          <p:nvPr/>
        </p:nvSpPr>
        <p:spPr>
          <a:xfrm>
            <a:off x="1042920" y="3024360"/>
            <a:ext cx="0" cy="981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1" name="Line 23"/>
          <p:cNvSpPr/>
          <p:nvPr/>
        </p:nvSpPr>
        <p:spPr>
          <a:xfrm>
            <a:off x="3132000" y="3024360"/>
            <a:ext cx="0" cy="982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2" name="Line 24"/>
          <p:cNvSpPr/>
          <p:nvPr/>
        </p:nvSpPr>
        <p:spPr>
          <a:xfrm>
            <a:off x="3059280" y="1268280"/>
            <a:ext cx="0" cy="358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3" name="Line 25"/>
          <p:cNvSpPr/>
          <p:nvPr/>
        </p:nvSpPr>
        <p:spPr>
          <a:xfrm>
            <a:off x="6588000" y="1557360"/>
            <a:ext cx="0" cy="0"/>
          </a:xfrm>
          <a:prstGeom prst="line">
            <a:avLst/>
          </a:prstGeom>
          <a:ln w="936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4" name="Line 26"/>
          <p:cNvSpPr/>
          <p:nvPr/>
        </p:nvSpPr>
        <p:spPr>
          <a:xfrm>
            <a:off x="6877080" y="126828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468000" y="1052640"/>
            <a:ext cx="8567640" cy="516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Поручение Президента Российской Федерации от 6 июня 2010  № ПР-1640 ГС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«О проведении инвентаризации учета объектов накопленного экологического ущерба и разработки комплекса мер по его ликвидации»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6" name="Номер слайда 3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2242C-CE18-4FD8-BA35-2E3ED2D221B6}" type="slidenum">
              <a:rPr b="0" lang="ru-RU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1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1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a3d7a"/>
                </a:solidFill>
                <a:latin typeface="Times New Roman"/>
              </a:rPr>
              <a:t>Выявление несанкционированных свалок</a:t>
            </a:r>
            <a:endParaRPr b="0" lang="en-US" sz="32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066680" y="1699920"/>
            <a:ext cx="7772400" cy="451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Times New Roman"/>
              </a:rPr>
              <a:t>Органы местного самоуправление (муниципальных районов, городских округов и сельских и городских поселений) </a:t>
            </a: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– проведение обследования территорий, организация работ по ликвидации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Times New Roman"/>
              </a:rPr>
              <a:t>Государственная инспекция по экологии и природопользованию Пермского края </a:t>
            </a: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– проведение рейдовых проверок, административные расследования по обращениям граждан, направление требований  по ликвидации свалок, привлечение к административной ответственности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Times New Roman"/>
              </a:rPr>
              <a:t>Управление Росприроднадзора по Пермскому краю </a:t>
            </a: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- проведение рейдовых проверок, административные расследования по обращениям граждан, направление требований  по ликвидации свалок, привлечение к административной ответственности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Times New Roman"/>
              </a:rPr>
              <a:t>Граждане</a:t>
            </a: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 – передача информации в контролирующие органы и органы местного самоуправления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9" name="Номер слайда 3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D8F85-F26A-4984-A46D-8B2E6C6A93D3}" type="slidenum">
              <a:rPr b="0" lang="ru-RU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1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1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a3d7a"/>
                </a:solidFill>
                <a:latin typeface="Times New Roman"/>
              </a:rPr>
              <a:t>Деятельность Инспекции</a:t>
            </a:r>
            <a:endParaRPr b="0" lang="en-US" sz="32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Государственной инспекцией по экологии и природопользованию Пермского края проведено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- 34 рейдовых проверок  на территории 25 муниципальных образований;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- выявлено  - 144 свалки;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- проведено - 21 административное расследование;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- к административной ответственности привлечено: 10 юридических лиц, 11 физических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Общая сумма штрафов составила – 761000 рублей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2" name="Номер слайда 3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7DF2C-435E-405A-A9AA-0A029A506F60}" type="slidenum">
              <a:rPr b="0" lang="ru-RU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1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a3d7a"/>
                </a:solidFill>
                <a:latin typeface="Times New Roman"/>
              </a:rPr>
              <a:t>Результаты проведения мероприятий по ликвидации несанкционированных свалок</a:t>
            </a:r>
            <a:endParaRPr b="0" lang="en-US" sz="32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755640" y="2101680"/>
          <a:ext cx="8083440" cy="1381320"/>
        </p:xfrm>
        <a:graphic>
          <a:graphicData uri="http://schemas.openxmlformats.org/drawingml/2006/table">
            <a:tbl>
              <a:tblPr/>
              <a:tblGrid>
                <a:gridCol w="792000"/>
                <a:gridCol w="1295640"/>
                <a:gridCol w="1657440"/>
                <a:gridCol w="1366560"/>
                <a:gridCol w="1676520"/>
                <a:gridCol w="1295280"/>
              </a:tblGrid>
              <a:tr h="640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год</a:t>
                      </a:r>
                      <a:endParaRPr b="1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9dd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ыявлено</a:t>
                      </a:r>
                      <a:endParaRPr b="1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9dd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лощадь</a:t>
                      </a:r>
                      <a:endParaRPr b="1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9dd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ликвидировано</a:t>
                      </a:r>
                      <a:endParaRPr b="1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9dd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лощадь</a:t>
                      </a:r>
                      <a:endParaRPr b="1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9dd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оцент</a:t>
                      </a:r>
                      <a:endParaRPr b="1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9ddf1"/>
                    </a:solidFill>
                  </a:tcPr>
                </a:tc>
              </a:tr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2011</a:t>
                      </a:r>
                      <a:endParaRPr b="1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2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993</a:t>
                      </a:r>
                      <a:endParaRPr b="1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2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127,9 </a:t>
                      </a:r>
                      <a:endParaRPr b="1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2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920</a:t>
                      </a:r>
                      <a:endParaRPr b="1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2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112,04 </a:t>
                      </a:r>
                      <a:endParaRPr b="1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2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93%</a:t>
                      </a:r>
                      <a:endParaRPr b="1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2fa"/>
                    </a:solidFill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2012</a:t>
                      </a:r>
                      <a:endParaRPr b="1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f9f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934</a:t>
                      </a:r>
                      <a:endParaRPr b="1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f9f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104,7</a:t>
                      </a:r>
                      <a:endParaRPr b="1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f9f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837</a:t>
                      </a:r>
                      <a:endParaRPr b="1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f9f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97,9</a:t>
                      </a:r>
                      <a:endParaRPr b="1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f9f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90%</a:t>
                      </a:r>
                      <a:endParaRPr b="1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f9fc"/>
                    </a:solidFill>
                  </a:tcPr>
                </a:tc>
              </a:tr>
            </a:tbl>
          </a:graphicData>
        </a:graphic>
      </p:graphicFrame>
      <p:sp>
        <p:nvSpPr>
          <p:cNvPr id="125" name="Номер слайда 3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CF5CE-F4C1-474F-A881-744896C56ACF}" type="slidenum">
              <a:rPr b="0" lang="ru-RU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1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7" descr="Свалки"/>
          <p:cNvPicPr/>
          <p:nvPr/>
        </p:nvPicPr>
        <p:blipFill>
          <a:blip r:embed="rId1"/>
          <a:stretch/>
        </p:blipFill>
        <p:spPr>
          <a:xfrm>
            <a:off x="611280" y="1197000"/>
            <a:ext cx="4105080" cy="56610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8" descr="Га"/>
          <p:cNvPicPr/>
          <p:nvPr/>
        </p:nvPicPr>
        <p:blipFill>
          <a:blip r:embed="rId2"/>
          <a:stretch/>
        </p:blipFill>
        <p:spPr>
          <a:xfrm>
            <a:off x="4865760" y="1125360"/>
            <a:ext cx="4278240" cy="573264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10"/>
          <p:cNvSpPr/>
          <p:nvPr/>
        </p:nvSpPr>
        <p:spPr>
          <a:xfrm>
            <a:off x="1258920" y="836640"/>
            <a:ext cx="2448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5580000" y="981000"/>
            <a:ext cx="2448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646920" y="333360"/>
            <a:ext cx="3487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e0d0c"/>
                </a:solidFill>
                <a:latin typeface="Times New Roman"/>
              </a:rPr>
              <a:t>Количество выявленных </a:t>
            </a:r>
            <a:endParaRPr b="1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e0d0c"/>
                </a:solidFill>
                <a:latin typeface="Times New Roman"/>
              </a:rPr>
              <a:t>стихийных свалок в разрезе </a:t>
            </a:r>
            <a:endParaRPr b="1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e0d0c"/>
                </a:solidFill>
                <a:latin typeface="Times New Roman"/>
              </a:rPr>
              <a:t>городов и районов</a:t>
            </a:r>
            <a:r>
              <a:rPr b="1" lang="ru-RU" sz="20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5076720" y="333360"/>
            <a:ext cx="3873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e0d0c"/>
                </a:solidFill>
                <a:latin typeface="Times New Roman"/>
              </a:rPr>
              <a:t>Площади занятые стихийными </a:t>
            </a:r>
            <a:endParaRPr b="1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e0d0c"/>
                </a:solidFill>
                <a:latin typeface="Times New Roman"/>
              </a:rPr>
              <a:t>свалками в разрезе городов и районов</a:t>
            </a:r>
            <a:endParaRPr b="1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610920" y="115560"/>
            <a:ext cx="82278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5249"/>
                </a:solidFill>
                <a:latin typeface="Times New Roman"/>
              </a:rPr>
              <a:t>ОМС активно участвующие: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a50021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Березники;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a50021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Соликамск;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a50021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Добрянский район;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a50021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Октябрьский район;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a50021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Пермский район;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a50021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Чайковский район;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a50021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Ординский район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5249"/>
                </a:solidFill>
                <a:latin typeface="Times New Roman"/>
              </a:rPr>
              <a:t>Отстающие районы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a50021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Юрлинский район;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a50021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Еловский район;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a50021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Юсьвенский район;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a50021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Осинский район;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a50021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Чердынский район;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a50021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Куединский район;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a50021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Горнозаводский район;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a50021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Губахинский район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a50021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3" name="Номер слайда 3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A92C9-CF73-43A2-B159-05A1D6889476}" type="slidenum">
              <a:rPr b="0" lang="ru-RU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1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4" descr="Karikatur Kopf Tonne"/>
          <p:cNvPicPr/>
          <p:nvPr/>
        </p:nvPicPr>
        <p:blipFill>
          <a:blip r:embed="rId1"/>
          <a:stretch/>
        </p:blipFill>
        <p:spPr>
          <a:xfrm>
            <a:off x="539640" y="404640"/>
            <a:ext cx="8136000" cy="6375600"/>
          </a:xfrm>
          <a:prstGeom prst="rect">
            <a:avLst/>
          </a:prstGeom>
          <a:ln w="0">
            <a:noFill/>
          </a:ln>
        </p:spPr>
      </p:pic>
      <p:sp>
        <p:nvSpPr>
          <p:cNvPr id="135" name="Прямоугольник 1"/>
          <p:cNvSpPr/>
          <p:nvPr/>
        </p:nvSpPr>
        <p:spPr>
          <a:xfrm>
            <a:off x="1042920" y="3228840"/>
            <a:ext cx="691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СПАСИБО ЗА ВНИМАНИЕ !</a:t>
            </a:r>
            <a:endParaRPr b="1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5T11:29:03Z</dcterms:created>
  <dc:creator>user</dc:creator>
  <dc:description/>
  <dc:language>en-US</dc:language>
  <cp:lastModifiedBy>Куркина О.Г.</cp:lastModifiedBy>
  <cp:lastPrinted>2012-12-06T03:53:09Z</cp:lastPrinted>
  <dcterms:modified xsi:type="dcterms:W3CDTF">2012-12-07T10:06:15Z</dcterms:modified>
  <cp:revision>568</cp:revision>
  <dc:subject/>
  <dc:title>Основная задача</dc:title>
</cp:coreProperties>
</file>