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13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DA1-975A-43D4-9991-B1E3D2B2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058-58F3-4AB3-94C8-C68F9D6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36B-7CF4-4B1F-A42D-C26361B6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EF7-966D-4F10-95E4-14FB1366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68C4-CEDC-4B3C-B428-75CD873E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BF8-A41E-49AB-9384-96F3EBA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CE8-3A48-47A7-9980-7CE3215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8E7-9D87-4F37-9A66-38C3F386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FBB3-1E69-46F6-B945-E217FD21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1078-623F-40F6-B4AB-419946B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C33-B612-4334-B04F-3426300D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0E7-0C0A-46A3-A5F5-1A58AD2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A6FE-D651-419D-ABA9-3C57913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72D4-FE3F-4D0F-A1DA-A26588C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83E2-81AD-4B4B-912F-F7DA3E4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01E-119B-463D-AB4F-7779664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D419-701F-47FC-8B9C-C4AE10A7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5BE-6E47-4013-94A0-49AE2A44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7D7-F78D-40A6-ADF7-BBE6F09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83F-2629-4280-AEC0-0DF0C1C8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EFF-999D-487C-BFA7-3B44EA6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BDD-6EB2-413D-BD74-5EBCDFB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9F1-2D21-4B01-9744-D0DD08E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BCD-C21C-4D37-BD76-AFA269D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6EA-FB45-4184-8C98-810AE9A9099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E74B-A38C-4E45-9488-4237140F084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ioos.ru/kadastr/Reestr_OPO.xls" TargetMode="External"/><Relationship Id="rId2" Type="http://schemas.openxmlformats.org/officeDocument/2006/relationships/hyperlink" Target="http://www.gioos.ru/kadastr/Reestr_OPO.xls" TargetMode="External"/><Relationship Id="rId3" Type="http://schemas.openxmlformats.org/officeDocument/2006/relationships/hyperlink" Target="http://www.gioos.ru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83883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О мерах по ликвидации загрязнения территории  края твердыми бытовыми отходами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5" descr="Logo"/>
          <p:cNvPicPr/>
          <p:nvPr/>
        </p:nvPicPr>
        <p:blipFill>
          <a:blip r:embed="rId1"/>
          <a:stretch/>
        </p:blipFill>
        <p:spPr>
          <a:xfrm>
            <a:off x="539640" y="404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2552400" y="692280"/>
            <a:ext cx="38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imes New Roman"/>
              </a:rPr>
              <a:t>Правительство Пермского кр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4941720"/>
            <a:ext cx="38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Начальник Государственной инспекции по экологии и природопользованию Пермского кр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В.Г. Лазепн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Нормативные правовые акты,  регламентирующие осуществление контроля органами местного самоуправлени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101320"/>
            <a:ext cx="82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Федеральный  закон от 06.10.2003 « 131-ФЗ «Об общих принципах организации местного самоуправления в Российской Федерации»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Устав муниципального образовани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Нормативный правовой акт муниципального образования об обращении с отходами на территории муниципального образовани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Закон Пермского края от 30.08.2010  № 668-ПК «О наделении органов местного самоуправления государственными полномочиями Пермского края по составлению протоколов об административных правонарушениях»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Закон Пермского края  от 01.11.2007 № 139-ПК «Об административных правонарушениях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Закон Пермского края «Об административных правонарушениях» от 01.11.2007 № 139-ПК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7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e0d0c"/>
                </a:solidFill>
                <a:latin typeface="Times New Roman"/>
              </a:rPr>
              <a:t>Статья 2.33.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 Нарушение правил организации сбора, вывоза, утилизации и переработки бытовых и промышленных отходо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(введена Законом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Пермского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 края от 02.09.2010 N 665-ПК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1. Неисполнение или нарушение муниципальных нормативных правовых актов, принятых в пределах полномочий органов местного самоуправления, установленных законодательством Российской Федерации, в целях организации сбора, вывоза, утилизации и переработки бытовых и промышленных отходов на территории муниципального образования, -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влечет наложение административного штрафа на граждан в размере от одной тысячи до трех тысяч рублей; на должностных лиц - от двух тысяч до десяти тысяч рублей; на юридических лиц - от десяти тысяч до пятидесяти тысяч рублей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2. Те же действия (бездействие), совершенные лицом, подвергнутым административному наказанию за одно из нарушений, предусмотренных частью 1 настоящей статьи, -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влекут наложение административного штрафа на граждан в размере от одной тысячи пятисот до пяти тысяч рублей; на должностных лиц - от десяти тысяч до пятидесяти тысяч рублей; на юридических лиц - от пятидесяти тысяч до двухсот тысяч</a:t>
            </a:r>
            <a:r>
              <a:rPr b="0" lang="en-US" sz="14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рублей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80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e0d0c"/>
                </a:solidFill>
                <a:latin typeface="Times New Roman"/>
              </a:rPr>
              <a:t>Статья 3.1</a:t>
            </a: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. Органы, уполномоченные рассматривать дела об административных правонарушения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Дела об административных правонарушениях, предусмотренных настоящим Законом, рассматриваются в пределах полномочий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e0d0c"/>
                </a:solidFill>
                <a:latin typeface="Times New Roman"/>
              </a:rPr>
              <a:t>1) мировыми судьями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2) комиссиями по делам несовершеннолетних и защите их прав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e0d0c"/>
                </a:solidFill>
                <a:latin typeface="Times New Roman"/>
              </a:rPr>
              <a:t>3) исполнительными органами государственной власти Пермского края, уполномоченными осуществлять государственный экологический контроль, государственный надзор и контроль в сфере охраны и использования объектов животного мир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15472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e0d0c"/>
                </a:solidFill>
                <a:latin typeface="Times New Roman"/>
              </a:rPr>
              <a:t>Статья 3.6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. Должностные лица, уполномоченные составлять протоколы об административных правонарушениях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6. Должностные лица органов местного самоуправления вправе составлять протоколы об административных правонарушениях, предусмотренных статьями </a:t>
            </a:r>
            <a:r>
              <a:rPr b="1" lang="en-US" sz="1800" spc="-1" strike="noStrike">
                <a:solidFill>
                  <a:srgbClr val="2a3d7a"/>
                </a:solidFill>
                <a:latin typeface="Times New Roman"/>
              </a:rPr>
              <a:t>2.8, 2.11, 2.15, 2.16, 2.26, 2.27, 2.29.1, 2.31, 2.32, 2.33, 2.34, 2.35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 настоящего Закон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К должностным лицам органов местного самоуправления, уполномоченным составлять протоколы об административных правонарушениях, относятся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- руководители органов местного самоуправления, их заместители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- руководители структурных подразделений органов местного самоуправления, их заместители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- лица, замещающие ведущие, старшие муниципальные должности муниципальной службы, учреждаемые органами местного самоуправления для обеспечения исполнения их полномочий, замещаемые путем заключения контракта (трудового договора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Перечень должностных лиц органов местного самоуправления, уполномоченных составлять протоколы об административных правонарушениях, устанавливается органами местного самоуправления самостоятельно в соответствии с нормативными правовыми актами муниципального образования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Направление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37a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337a3"/>
                </a:solidFill>
                <a:latin typeface="Times New Roman"/>
              </a:rPr>
              <a:t>Обеспечение нормативного обращения  с отходами на территории муниципальных образований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d337a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D94-FD25-44C3-9B31-49E881CF733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4931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Инвентаризация объектов размещения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С  2008 года  ежегодно  в  рамках ведения регионального кадастра на территории края проводится инвентаризация объектов  размещения твердых бытовых отходов в муниципальных образованиях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В  июле-августе   2011 года  проведена очередная инвентаризация объектов   размещения   твердых   бытовых   отходов   на  территориях муниципальных образовани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По предварительным данным инвентаризации установлено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623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-  постоянно действующих объектов размещения твердых бытовых отходов на территории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35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объектов  -  дополнительно  выявленных   на   территориях Бардымского,  Ильинского, Красновишерского,  Октябрьского, Сликамского, Очерского, Юрлинского, Юсьвенского, Косинского муниципальных район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56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объектов размещения отходов - выведены из эксплуатации. Общая площадь данных объектов составляет 89 г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A44-B5B7-43ED-8464-4ADC63E194E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Реестр объектов размещения отходов Пермского кра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Региональный реестр объектов размещения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отходов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представляет собой систематизированный свод документированных сведений о расположенных на территории Пермского края объектах размещения отходов (о местоположении, целевом назначении, правовом положении объектов, их состоянии, наличии размещенных отходов), формируемых в результате проведения учета объектов размещения отхо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Данные </a:t>
            </a:r>
            <a:r>
              <a:rPr b="0" lang="ru-RU" sz="20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Регионального реестра объектов размещения</a:t>
            </a:r>
            <a:r>
              <a:rPr b="0" lang="ru-RU" sz="20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отходов размещены на сайте Государственной инспекции п экологии и природопользованию Пермского края </a:t>
            </a:r>
            <a:r>
              <a:rPr b="0" lang="ru-RU" sz="20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www.gioos.ru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Региональный Реестр объектов размещения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84360" y="873000"/>
          <a:ext cx="746100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73000"/>
                    <a:ext cx="74610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564000" y="620640"/>
            <a:ext cx="2232000" cy="916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Инвентаризация объектов размещения ТБ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340000" y="5157720"/>
            <a:ext cx="4608360" cy="36828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Анализ информации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796000" y="3213000"/>
            <a:ext cx="1584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867280" y="3284640"/>
            <a:ext cx="158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780000" y="3213000"/>
            <a:ext cx="1584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51280" y="3284640"/>
            <a:ext cx="1584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619280" y="3213000"/>
            <a:ext cx="158436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763640" y="3284640"/>
            <a:ext cx="15843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839240" y="3933720"/>
            <a:ext cx="1436400" cy="368280"/>
          </a:xfrm>
          <a:prstGeom prst="rect">
            <a:avLst/>
          </a:prstGeom>
          <a:solidFill>
            <a:srgbClr val="f046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ликвидац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857400" y="4005360"/>
            <a:ext cx="1621080" cy="368280"/>
          </a:xfrm>
          <a:prstGeom prst="rect">
            <a:avLst/>
          </a:prstGeom>
          <a:solidFill>
            <a:srgbClr val="f5f94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обустройств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255680" y="760320"/>
            <a:ext cx="1598760" cy="368280"/>
          </a:xfrm>
          <a:prstGeom prst="rect">
            <a:avLst/>
          </a:prstGeom>
          <a:solidFill>
            <a:srgbClr val="12c81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Инспекц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372360" y="692280"/>
            <a:ext cx="2323800" cy="642600"/>
          </a:xfrm>
          <a:prstGeom prst="rect">
            <a:avLst/>
          </a:prstGeom>
          <a:solidFill>
            <a:srgbClr val="fea8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Органы местного самоуправлен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994120" y="2133720"/>
            <a:ext cx="3539520" cy="3682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Региональный кадастр отходо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418120" y="2637000"/>
            <a:ext cx="4626360" cy="368280"/>
          </a:xfrm>
          <a:prstGeom prst="rect">
            <a:avLst/>
          </a:prstGeom>
          <a:solidFill>
            <a:srgbClr val="e9ee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c0b"/>
                </a:solidFill>
                <a:latin typeface="Arial"/>
              </a:rPr>
              <a:t>Категории объектов размещения отходо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161040" y="4005360"/>
            <a:ext cx="1625400" cy="368280"/>
          </a:xfrm>
          <a:prstGeom prst="rect">
            <a:avLst/>
          </a:prstGeom>
          <a:solidFill>
            <a:srgbClr val="98f69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эксплуатац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716360" y="1557360"/>
            <a:ext cx="0" cy="5763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4643280" y="2492280"/>
            <a:ext cx="0" cy="1447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2556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464328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Line 21"/>
          <p:cNvSpPr/>
          <p:nvPr/>
        </p:nvSpPr>
        <p:spPr>
          <a:xfrm>
            <a:off x="6588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2484360" y="3716280"/>
            <a:ext cx="0" cy="21744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46735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7327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2840040" y="907920"/>
            <a:ext cx="7239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Line 26"/>
          <p:cNvSpPr/>
          <p:nvPr/>
        </p:nvSpPr>
        <p:spPr>
          <a:xfrm flipH="1">
            <a:off x="5795640" y="907920"/>
            <a:ext cx="5763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 flipH="1">
            <a:off x="684000" y="5373720"/>
            <a:ext cx="1655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6948360" y="5300640"/>
            <a:ext cx="151128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Line 29"/>
          <p:cNvSpPr/>
          <p:nvPr/>
        </p:nvSpPr>
        <p:spPr>
          <a:xfrm flipV="1">
            <a:off x="8459640" y="1341360"/>
            <a:ext cx="0" cy="3959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646200" y="907920"/>
            <a:ext cx="62208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2639880" y="4292640"/>
            <a:ext cx="0" cy="865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46990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67276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H="1" flipV="1">
            <a:off x="673200" y="914400"/>
            <a:ext cx="25200" cy="44704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1444680" y="17136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c0b"/>
                </a:solidFill>
                <a:latin typeface="Times New Roman"/>
              </a:rPr>
              <a:t>Учет объектов размещения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Муниципальные образования, не предоставившие информацию по результатам инвентаризации объектов размещения отходов, по </a:t>
            </a:r>
            <a:r>
              <a:rPr b="1" lang="en-US" sz="2400" spc="-1" strike="noStrike">
                <a:solidFill>
                  <a:srgbClr val="d337a3"/>
                </a:solidFill>
                <a:latin typeface="Times New Roman"/>
              </a:rPr>
              <a:t>«направлению 2»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8560" y="1483920"/>
            <a:ext cx="35830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0d0c"/>
                </a:solidFill>
                <a:latin typeface="Times New Roman"/>
              </a:rPr>
              <a:t>Березовский район</a:t>
            </a:r>
            <a:r>
              <a:rPr b="0" lang="ru-RU" sz="24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0d0c"/>
                </a:solidFill>
                <a:latin typeface="Times New Roman"/>
              </a:rPr>
              <a:t>Карагайский район</a:t>
            </a:r>
            <a:r>
              <a:rPr b="0" lang="ru-RU" sz="24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0d0c"/>
                </a:solidFill>
                <a:latin typeface="Times New Roman"/>
              </a:rPr>
              <a:t>Суксунский  район</a:t>
            </a:r>
            <a:r>
              <a:rPr b="0" lang="ru-RU" sz="24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0d0c"/>
                </a:solidFill>
                <a:latin typeface="Times New Roman"/>
              </a:rPr>
              <a:t>Частинский район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1" name="Picture 4" descr="Karikatur Kopf Tonne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09240" y="549360"/>
            <a:ext cx="56062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Система мер по предотвращению загрязнени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территории Пермского кр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700280"/>
            <a:ext cx="3600720" cy="161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37a3"/>
                </a:solidFill>
                <a:latin typeface="Times New Roman"/>
              </a:rPr>
              <a:t>Направление 1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Ликвидация стихийных свалок и мест несанкционированного размещения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1628640"/>
            <a:ext cx="4537080" cy="161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37a3"/>
                </a:solidFill>
                <a:latin typeface="Times New Roman"/>
              </a:rPr>
              <a:t>Направление 2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Обеспечение нормативного обращ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с отходами на территории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Инвентаризация объектов размещен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отходов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00536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Обеспечение функционирования схем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санитарной очистки территорий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4732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Приведение в соответствие нормативным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требованиям объектов размещения отходов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58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ывод из эксплуатации, объектов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размещения отходов, расположенных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 водоохранных зонах, населенных пунктах и т.д.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211640" y="29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92428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4941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422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005360"/>
            <a:ext cx="1764000" cy="94752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Контрольно -надзорные мероприятия</a:t>
            </a: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076640"/>
            <a:ext cx="2016360" cy="119124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Очистка территории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35592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35772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12682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1557360"/>
            <a:ext cx="0" cy="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126828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48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Оценка деятельности органов местного самоуправления по организации работ по сбору, вывозу утилизации твердых бытовых отходов</a:t>
            </a:r>
            <a:br>
              <a:rPr sz="24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96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В рамках Соглашений о взаимодействии Правительства Пермского края и органами местного самоуправления Пермского края в сфере управления ресурсами на 2011-2013 гг. определен целевой показатель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e0d0c"/>
                </a:solidFill>
                <a:latin typeface="Times New Roman"/>
              </a:rPr>
              <a:t>Доля земель, занятых твёрдыми бытовыми отходами (ТБО), соответствующих  требованиям природоохранного законодательств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Площадь земель, занятая объектами отходов,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5b5249"/>
                </a:solidFill>
                <a:latin typeface="Times New Roman"/>
              </a:rPr>
              <a:t>ДОЛЯ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US" sz="1000" spc="-1" strike="noStrike" u="sng">
                <a:solidFill>
                  <a:srgbClr val="5b5249"/>
                </a:solidFill>
                <a:uFillTx/>
                <a:latin typeface="Times New Roman"/>
              </a:rPr>
              <a:t>  соответствующая нормативным требованиям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Общая площадь всех земель, занятая отходами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Picture 5" descr="Площади свалок"/>
          <p:cNvPicPr/>
          <p:nvPr/>
        </p:nvPicPr>
        <p:blipFill>
          <a:blip r:embed="rId1"/>
          <a:stretch/>
        </p:blipFill>
        <p:spPr>
          <a:xfrm>
            <a:off x="4500720" y="1197000"/>
            <a:ext cx="4643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РЕШЕНИ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совещания  «О мерах по ликвидации загрязнения территории края твердыми бытовыми отходами»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1. Принять информацию к сведению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2. Рекомендовать органам местного самоуправления Пермского края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родолжить практику ликвидации стихийных и несанкционированных свалок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редставить </a:t>
            </a: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в срок до 01.12.2011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 года в Государственную инспекцию по экологии и природопользованию Пермского края информацию: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о несанкционированным свалкам: Березовскому, Еловскому, Ильинскому; Карагайскому, Кишертскому, Красновишерскому, Осинскому, Оханскому и Чердынскому районам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по инвентаризации объектов размещения отходов: Берёзовскому, Карагайскому, Суксунскому и Частинскому районам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разработать и утвердить в срок </a:t>
            </a: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до 01.02.2012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 года правила обращения с ТБО на территории следующих муниципальных образований: ЗАТО Звездный, Бардымского, Кишертского, Соликамского, Усольского, Частинского, Гайнского, Юрлинского, Юсьвенского районов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назначить в срок </a:t>
            </a: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до 31.12.2011 года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 должностных лиц уполномоченных составлять протоколы согласно ст.2.33 Закона Пермского края от 01.11.2007 N 139-ПК «Об административных правонарушениях»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редставить в срок </a:t>
            </a:r>
            <a:r>
              <a:rPr b="1" lang="ru-RU" sz="1400" spc="-1" strike="noStrike">
                <a:solidFill>
                  <a:srgbClr val="0e0d0c"/>
                </a:solidFill>
                <a:latin typeface="Times New Roman"/>
              </a:rPr>
              <a:t>до 01.04.2012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 года в Государственную инспекцию по экологии и природопользованию Пермского края и Министерство жилищно-коммунального хозяйства Пермского края информацию о принятых схемах очистки территорий муниципальных районов и городских округов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редусмотреть финансирование на 2012 год в объеме средств, необходимых для привидения действующих объектов размещения отходов в нормативное состояние и выводу из эксплуатации объектов размещения отходов, расположенных в границах населенных пунктов, водоохранных, рекреационных и других запрещенных территориях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3. Государственной инспекции по экологии и природопользованию Пермского края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оказать методическую помощь органам местного самоуправления по осуществлению контроля за нормативно правовыми актами в области обращения с отходами (по графику выезда в территории)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в течение 2012 года обеспечить контроль за выводом из эксплуатации объектов размещения отходов, расположенных в границах населенных пунктов, водоохранных, рекреационных  и других запрещенных территориях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продолжить в 2012 году выезды в муниципальные образования с целью проверки предоставляемой органами местного самоуправления информации о состоянии объектов размещения отходов на территории (в соответствии с графиком выезда)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4. Министерству жилищно-коммунального хозяйства Пермского края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- оказать методическую и консультационную помощь по разработке схем очистки территорий от бытовых и</a:t>
            </a: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e0d0c"/>
                </a:solidFill>
                <a:latin typeface="Times New Roman"/>
              </a:rPr>
              <a:t>промышленных отходов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СПАСИБО ЗА ВНИМАНИЕ !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e0d0c"/>
                </a:solidFill>
                <a:latin typeface="Times New Roman"/>
              </a:rPr>
              <a:t>Направление 1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d0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337a3"/>
                </a:solidFill>
                <a:latin typeface="Times New Roman"/>
              </a:rPr>
              <a:t>Ликвидация стихийных свалок и мест несанкционированного размещения отход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549360"/>
            <a:ext cx="669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4d20"/>
                </a:solidFill>
                <a:latin typeface="Times New Roman"/>
              </a:rPr>
              <a:t>Система контроля за обращением с отходам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1268280"/>
            <a:ext cx="24480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4d20"/>
                </a:solidFill>
                <a:latin typeface="Times New Roman"/>
              </a:rPr>
              <a:t>Прокурату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3357720"/>
            <a:ext cx="25336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4d20"/>
                </a:solidFill>
                <a:latin typeface="Times New Roman"/>
              </a:rPr>
              <a:t>Органы местного самоуправ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284640"/>
            <a:ext cx="244764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44d20"/>
                </a:solidFill>
                <a:latin typeface="Times New Roman"/>
              </a:rPr>
              <a:t>Управление Росприроднадз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357720"/>
            <a:ext cx="2448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4d20"/>
                </a:solidFill>
                <a:latin typeface="Times New Roman"/>
              </a:rPr>
              <a:t>ГИЭП П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789360"/>
            <a:ext cx="2376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Надзор в области обращения с отходами на объектах не относящихся к федеральному государственному экологическому надзору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Установление лимитов на объектах не относящихся к федеральному государственному экологическому надзору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076640"/>
            <a:ext cx="237636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Надзор в области обращения с отходами на объектах подлежащих федеральному государственному экологическому надзору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Паспортизация отходов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Лицензирование деятельности по сбору, использованию, обезвреживанию, размещению отходов 1-4 классов опасности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076640"/>
            <a:ext cx="27370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Организация деятельности по сбору, вывозу, утилизации, переработке бытовых и промышленных отходов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- Установление Правил обращения с отходами на территории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Контроль за исполнением Правил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Ликвидация несанкционированных свалок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924280"/>
            <a:ext cx="0" cy="43344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547280" y="2924280"/>
            <a:ext cx="547380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2924280"/>
            <a:ext cx="0" cy="43164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924280"/>
            <a:ext cx="0" cy="36036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1268280"/>
            <a:ext cx="0" cy="16560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1773360"/>
            <a:ext cx="25927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Надзор за исполнением законодательства в области обращения  с отходами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b5249"/>
                </a:solidFill>
                <a:latin typeface="Arial"/>
              </a:rPr>
              <a:t>Надзор за исполнением функций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11640" y="1413000"/>
            <a:ext cx="1944720" cy="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Карта_штрафы_1"/>
          <p:cNvPicPr/>
          <p:nvPr/>
        </p:nvPicPr>
        <p:blipFill>
          <a:blip r:embed="rId1"/>
          <a:stretch/>
        </p:blipFill>
        <p:spPr>
          <a:xfrm>
            <a:off x="4716360" y="665280"/>
            <a:ext cx="4427640" cy="6192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Итоги регионального государственного экологического надзора за деятельность в области обращения с отходами за 10 месяцев 2011 года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816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По ст. 8.2. КоАП РФ «несоблюдение экологических и санитарно-эпидемиологических требований при обращении с отходами производства и потребления или иными опасными веществами» привлечены к ответственности  </a:t>
            </a:r>
            <a:r>
              <a:rPr b="1" lang="ru-RU" sz="1800" spc="-1" strike="noStrike">
                <a:solidFill>
                  <a:srgbClr val="0e0d0c"/>
                </a:solidFill>
                <a:latin typeface="Times New Roman"/>
              </a:rPr>
              <a:t>97</a:t>
            </a: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 юридических лиц и индивидуальных предпринимателей на территории </a:t>
            </a:r>
            <a:r>
              <a:rPr b="1" lang="ru-RU" sz="1800" spc="-1" strike="noStrike">
                <a:solidFill>
                  <a:srgbClr val="0e0d0c"/>
                </a:solidFill>
                <a:latin typeface="Times New Roman"/>
              </a:rPr>
              <a:t>23</a:t>
            </a: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 муниципальных образований. </a:t>
            </a:r>
            <a:br>
              <a:rPr sz="1800"/>
            </a:b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Сумма штрафных санкций –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e0d0c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e0d0c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e0d0c"/>
                </a:solidFill>
                <a:latin typeface="Times New Roman"/>
              </a:rPr>
              <a:t> 091 млн. руб.</a:t>
            </a: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7"/>
          <p:cNvGraphicFramePr/>
          <p:nvPr/>
        </p:nvGraphicFramePr>
        <p:xfrm>
          <a:off x="1332000" y="1125360"/>
          <a:ext cx="6624720" cy="57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25360"/>
                    <a:ext cx="66247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88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Очистка территорий муниципальных образова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5080" cy="566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65760" y="1125360"/>
            <a:ext cx="4278240" cy="5732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58920" y="836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981000"/>
            <a:ext cx="244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920" y="333360"/>
            <a:ext cx="34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Количество выявленных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стихийных свалок в разрезе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городов и районов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33360"/>
            <a:ext cx="387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Площади занятые стихийными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d0c"/>
                </a:solidFill>
                <a:latin typeface="Times New Roman"/>
              </a:rPr>
              <a:t>свалками в разрезе городов и район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Муниципальные образования не предоставившие информацию о принятых мерах по </a:t>
            </a:r>
            <a:r>
              <a:rPr b="1" lang="en-US" sz="2400" spc="-1" strike="noStrike">
                <a:solidFill>
                  <a:srgbClr val="d337a3"/>
                </a:solidFill>
                <a:latin typeface="Times New Roman"/>
              </a:rPr>
              <a:t>«направлению 1»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88560" y="1483920"/>
            <a:ext cx="35830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Охан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Кишертский 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Осинский  райо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Красновишер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Сивинский 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Березов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Карагай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Ильин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Уин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Суксунский 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Александровский район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Частинский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Куединский  район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Горнозаводский район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851280" y="1341360"/>
            <a:ext cx="496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360" y="2347560"/>
            <a:ext cx="691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Нормативно- правовое  регулирование при организации контроля за соблюдением требований, установленных муниципальными нормативными актами в области </a:t>
            </a:r>
            <a:br>
              <a:rPr sz="2400"/>
            </a:b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обращения  с отходами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29:03Z</dcterms:created>
  <dc:creator>user</dc:creator>
  <dc:description/>
  <dc:language>en-US</dc:language>
  <cp:lastModifiedBy>user</cp:lastModifiedBy>
  <dcterms:modified xsi:type="dcterms:W3CDTF">2011-11-08T07:30:31Z</dcterms:modified>
  <cp:revision>539</cp:revision>
  <dc:subject/>
  <dc:title>Основная задача</dc:title>
</cp:coreProperties>
</file>