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4.wmf" ContentType="image/x-wmf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66946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57A-9BCA-4370-AABB-AC78863C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0F0-81C9-475D-932D-77FB9C7A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251-E3A8-424D-9EC1-3F1FEF15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E5D-6165-49B1-B270-7E343FEB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D03D-65FE-4428-83CD-8782CD9F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3FE7-B6D5-46EE-8885-B999A6F0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0789-CC47-4B3C-9230-B693E9B4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4FD1-3EFE-490D-8C7A-F02B16BA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B081-975E-42D6-BB72-60F64607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2986-A620-46E0-8A99-7912954B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5DEF-FFEC-4AA5-AD04-2192748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E47-ADA6-4D7C-85CC-4DA4E179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ABE3-A760-44D4-BA47-74CCDA3D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26A7-985E-44A9-A6E1-C83CA738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8DB7-5C67-42AC-BAE5-E3C0698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EFC8-0CCD-4CF7-B343-58370B61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EDF7-9BB8-4BF7-AC5C-08A6DB5A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A90F-ACD1-452B-AD45-923CD995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7FDF-0A10-41F3-A8AD-2BA850B8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8D26-2EE9-447D-8693-BBECD4B0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D47C1-125E-492F-9A11-F043263E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670E0-344C-4F45-A8E7-DE16D8C2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9DA-805A-4165-AB37-0FF2D656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BF01-8C4E-4A56-A7C1-285361B1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C810-9251-49E5-A920-060A553B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A9AF-0C8E-42EB-9411-B62670C1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C60A-E899-4247-9DF3-4CA40C76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28FE-833E-41AA-83E6-C9F2DC80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3F7F-07E4-432C-ABAF-EF612DAD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354B-5A71-41A9-A0F9-9D56A369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AD2-8A37-4205-BC9C-9289D6E5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2CE-2786-447F-81AC-6F698DDF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168-C99C-4466-8860-6C022457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701-5C19-4462-9446-E2D7E5A7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89F-4E7C-419E-8BBC-4F1B78C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A7B-987E-4E9D-B479-D12AA7A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30480" y="0"/>
            <a:ext cx="79135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2D3F-AE39-4B76-AC6B-6F0E5B7BFA7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F625-266D-4EFD-BABA-8D1D6060E8B9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9" descr="anabnr2"/>
          <p:cNvPicPr/>
          <p:nvPr/>
        </p:nvPicPr>
        <p:blipFill>
          <a:blip r:embed="rId4"/>
          <a:stretch/>
        </p:blipFill>
        <p:spPr>
          <a:xfrm>
            <a:off x="1230480" y="0"/>
            <a:ext cx="7913520" cy="754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7CA6-0F95-4DCA-BA81-570538178AB4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ioos.ru/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11640" y="4508280"/>
            <a:ext cx="2855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Times New Roman"/>
              </a:rPr>
              <a:t>Государственная инспекция по экологии и природопользованию Пермского кра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Times New Roman"/>
              </a:rPr>
              <a:t>В.Г. Лазепный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5224320" y="359712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684360" y="162864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Общие вопросы учета движения отходов на уровне  предприятия, муниципального образования, регион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643280" y="6048360"/>
            <a:ext cx="10573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Times New Roman"/>
              </a:rPr>
              <a:t>ПЕРМЬ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3"/>
          <p:cNvSpPr/>
          <p:nvPr/>
        </p:nvSpPr>
        <p:spPr>
          <a:xfrm>
            <a:off x="8121600" y="5970600"/>
            <a:ext cx="7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FE56-2C9F-47F7-BD43-60BD90B5884D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Надпись 2"/>
          <p:cNvSpPr/>
          <p:nvPr/>
        </p:nvSpPr>
        <p:spPr>
          <a:xfrm>
            <a:off x="3316320" y="209520"/>
            <a:ext cx="3103560" cy="33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ПРИРОДОПОЛЬЗОВАТЕЛЬ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Надпись 2"/>
          <p:cNvSpPr/>
          <p:nvPr/>
        </p:nvSpPr>
        <p:spPr>
          <a:xfrm>
            <a:off x="311040" y="2614680"/>
            <a:ext cx="2662200" cy="63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Движение отходов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Надпись 2"/>
          <p:cNvSpPr/>
          <p:nvPr/>
        </p:nvSpPr>
        <p:spPr>
          <a:xfrm>
            <a:off x="3902040" y="3081240"/>
            <a:ext cx="2254320" cy="1038240"/>
          </a:xfrm>
          <a:prstGeom prst="rect">
            <a:avLst/>
          </a:prstGeom>
          <a:solidFill>
            <a:srgbClr val="cec8ba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образовано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передано 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размещено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Надпись 2"/>
          <p:cNvSpPr/>
          <p:nvPr/>
        </p:nvSpPr>
        <p:spPr>
          <a:xfrm>
            <a:off x="3430440" y="1335240"/>
            <a:ext cx="3103560" cy="583560"/>
          </a:xfrm>
          <a:prstGeom prst="rect">
            <a:avLst/>
          </a:prstGeom>
          <a:solidFill>
            <a:srgbClr val="ffc0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РЕГИОНАЛЬНЫЙ КАДАСТР ОТХОДОВ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Надпись 2"/>
          <p:cNvSpPr/>
          <p:nvPr/>
        </p:nvSpPr>
        <p:spPr>
          <a:xfrm>
            <a:off x="4010040" y="1935000"/>
            <a:ext cx="1992240" cy="33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ЭКО-РЕГИОН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Надпись 2"/>
          <p:cNvSpPr/>
          <p:nvPr/>
        </p:nvSpPr>
        <p:spPr>
          <a:xfrm>
            <a:off x="3902040" y="2606760"/>
            <a:ext cx="2254320" cy="33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ТЕРРИТОРИИ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Надпись 2"/>
          <p:cNvSpPr/>
          <p:nvPr/>
        </p:nvSpPr>
        <p:spPr>
          <a:xfrm>
            <a:off x="6873840" y="2624040"/>
            <a:ext cx="2176560" cy="71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ПОТОКИ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(каталог отходов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Надпись 2"/>
          <p:cNvSpPr/>
          <p:nvPr/>
        </p:nvSpPr>
        <p:spPr>
          <a:xfrm>
            <a:off x="311040" y="3243240"/>
            <a:ext cx="1278000" cy="2273400"/>
          </a:xfrm>
          <a:prstGeom prst="rect">
            <a:avLst/>
          </a:prstGeom>
          <a:solidFill>
            <a:srgbClr val="cec8ba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Поставщик- образовано; передано для: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 </a:t>
            </a: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использовани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обезвреживани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размещени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захоронени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Выноска со стрелкой вниз 40"/>
          <p:cNvSpPr/>
          <p:nvPr/>
        </p:nvSpPr>
        <p:spPr>
          <a:xfrm>
            <a:off x="3768840" y="561960"/>
            <a:ext cx="2211120" cy="771480"/>
          </a:xfrm>
          <a:prstGeom prst="downArrowCallout">
            <a:avLst>
              <a:gd name="adj1" fmla="val 25001"/>
              <a:gd name="adj2" fmla="val 24998"/>
              <a:gd name="adj3" fmla="val 25000"/>
              <a:gd name="adj4" fmla="val 64977"/>
            </a:avLst>
          </a:prstGeom>
          <a:solidFill>
            <a:srgbClr val="ffff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  <a:ea typeface="Calibri"/>
              </a:rPr>
              <a:t>ЭКОЛАЙ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Прямая соединительная линия 41"/>
          <p:cNvSpPr/>
          <p:nvPr/>
        </p:nvSpPr>
        <p:spPr>
          <a:xfrm>
            <a:off x="1978200" y="2376360"/>
            <a:ext cx="5800680" cy="3240"/>
          </a:xfrm>
          <a:prstGeom prst="line">
            <a:avLst/>
          </a:prstGeom>
          <a:ln w="22320">
            <a:solidFill>
              <a:srgbClr val="595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82" name="Прямая со стрелкой 42"/>
          <p:cNvCxnSpPr/>
          <p:nvPr/>
        </p:nvCxnSpPr>
        <p:spPr>
          <a:xfrm>
            <a:off x="1958760" y="2379240"/>
            <a:ext cx="1080" cy="24372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cxnSp>
        <p:nvCxnSpPr>
          <p:cNvPr id="183" name="Прямая со стрелкой 43"/>
          <p:cNvCxnSpPr/>
          <p:nvPr/>
        </p:nvCxnSpPr>
        <p:spPr>
          <a:xfrm>
            <a:off x="4932000" y="2274480"/>
            <a:ext cx="1080" cy="33876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lg" type="arrow" w="lg"/>
          </a:ln>
        </p:spPr>
      </p:cxnSp>
      <p:cxnSp>
        <p:nvCxnSpPr>
          <p:cNvPr id="184" name="Прямая со стрелкой 44"/>
          <p:cNvCxnSpPr>
            <a:stCxn id="185" idx="2"/>
          </p:cNvCxnSpPr>
          <p:nvPr/>
        </p:nvCxnSpPr>
        <p:spPr>
          <a:xfrm flipH="1">
            <a:off x="7778160" y="1934640"/>
            <a:ext cx="1080" cy="66132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sp>
        <p:nvSpPr>
          <p:cNvPr id="186" name="Надпись 2"/>
          <p:cNvSpPr/>
          <p:nvPr/>
        </p:nvSpPr>
        <p:spPr>
          <a:xfrm>
            <a:off x="6873840" y="3309840"/>
            <a:ext cx="2176560" cy="1714680"/>
          </a:xfrm>
          <a:prstGeom prst="rect">
            <a:avLst/>
          </a:prstGeom>
          <a:solidFill>
            <a:srgbClr val="fcdaa2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Вторичные ресурсы: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- минпромышленности;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- минЖКХ;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- субъекты хозяйственной деятельности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Надпись 2"/>
          <p:cNvSpPr/>
          <p:nvPr/>
        </p:nvSpPr>
        <p:spPr>
          <a:xfrm>
            <a:off x="6657840" y="1347840"/>
            <a:ext cx="2243160" cy="583560"/>
          </a:xfrm>
          <a:prstGeom prst="rect">
            <a:avLst/>
          </a:prstGeom>
          <a:solidFill>
            <a:srgbClr val="92d05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ИНВЕНТАРИЗАЦИЯ ОРО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Надпись 2"/>
          <p:cNvSpPr/>
          <p:nvPr/>
        </p:nvSpPr>
        <p:spPr>
          <a:xfrm>
            <a:off x="50760" y="1380960"/>
            <a:ext cx="3076560" cy="33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ГОСЭКОНАДЗОР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Надпись 2"/>
          <p:cNvSpPr/>
          <p:nvPr/>
        </p:nvSpPr>
        <p:spPr>
          <a:xfrm>
            <a:off x="3902040" y="5369040"/>
            <a:ext cx="1090800" cy="1125360"/>
          </a:xfrm>
          <a:prstGeom prst="rect">
            <a:avLst/>
          </a:prstGeom>
          <a:solidFill>
            <a:srgbClr val="ffc0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  <a:ea typeface="Calibri"/>
              </a:rPr>
              <a:t>Антропогенная нагрузка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  <a:ea typeface="Calibri"/>
              </a:rPr>
              <a:t>К –эк.  ситуации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Надпись 2"/>
          <p:cNvSpPr/>
          <p:nvPr/>
        </p:nvSpPr>
        <p:spPr>
          <a:xfrm>
            <a:off x="3902040" y="4329000"/>
            <a:ext cx="2254320" cy="895320"/>
          </a:xfrm>
          <a:prstGeom prst="rect">
            <a:avLst/>
          </a:prstGeom>
          <a:solidFill>
            <a:srgbClr val="e9f1f9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Официальный сайт Инспекции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www</a:t>
            </a: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. </a:t>
            </a:r>
            <a:r>
              <a:rPr b="1" lang="en-US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gioos</a:t>
            </a: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.</a:t>
            </a:r>
            <a:r>
              <a:rPr b="1" lang="en-US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ru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Надпись 2"/>
          <p:cNvSpPr/>
          <p:nvPr/>
        </p:nvSpPr>
        <p:spPr>
          <a:xfrm>
            <a:off x="5186520" y="5384880"/>
            <a:ext cx="969840" cy="1108080"/>
          </a:xfrm>
          <a:prstGeom prst="rect">
            <a:avLst/>
          </a:prstGeom>
          <a:solidFill>
            <a:srgbClr val="ffc0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  <a:ea typeface="Calibri"/>
              </a:rPr>
              <a:t>Мониторинг размещения отходов О</a:t>
            </a: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МС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Надпись 2"/>
          <p:cNvSpPr/>
          <p:nvPr/>
        </p:nvSpPr>
        <p:spPr>
          <a:xfrm>
            <a:off x="1735200" y="3238560"/>
            <a:ext cx="1270080" cy="2263680"/>
          </a:xfrm>
          <a:prstGeom prst="rect">
            <a:avLst/>
          </a:prstGeom>
          <a:solidFill>
            <a:srgbClr val="eecf9c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Потребители: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- получено;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использован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обезврежен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размещен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захоронен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Надпись 2"/>
          <p:cNvSpPr/>
          <p:nvPr/>
        </p:nvSpPr>
        <p:spPr>
          <a:xfrm>
            <a:off x="190440" y="6262560"/>
            <a:ext cx="3524400" cy="33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БАЛАНС- КОНТРОЛЬ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93" name="Прямая со стрелкой 53"/>
          <p:cNvCxnSpPr/>
          <p:nvPr/>
        </p:nvCxnSpPr>
        <p:spPr>
          <a:xfrm flipV="1">
            <a:off x="3092400" y="1550520"/>
            <a:ext cx="270720" cy="1656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cxnSp>
        <p:nvCxnSpPr>
          <p:cNvPr id="194" name="Прямая со стрелкой 54"/>
          <p:cNvCxnSpPr/>
          <p:nvPr/>
        </p:nvCxnSpPr>
        <p:spPr>
          <a:xfrm flipH="1">
            <a:off x="6533280" y="1566360"/>
            <a:ext cx="104040" cy="108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cxnSp>
        <p:nvCxnSpPr>
          <p:cNvPr id="195" name="Прямая со стрелкой 55"/>
          <p:cNvCxnSpPr>
            <a:stCxn id="179" idx="2"/>
          </p:cNvCxnSpPr>
          <p:nvPr/>
        </p:nvCxnSpPr>
        <p:spPr>
          <a:xfrm flipH="1">
            <a:off x="931680" y="5516640"/>
            <a:ext cx="19440" cy="74664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cxnSp>
        <p:nvCxnSpPr>
          <p:cNvPr id="196" name="Прямая со стрелкой 56"/>
          <p:cNvCxnSpPr/>
          <p:nvPr/>
        </p:nvCxnSpPr>
        <p:spPr>
          <a:xfrm>
            <a:off x="2484000" y="5516640"/>
            <a:ext cx="10440" cy="74664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cxnSp>
        <p:nvCxnSpPr>
          <p:cNvPr id="197" name="Прямая со стрелкой 57"/>
          <p:cNvCxnSpPr/>
          <p:nvPr/>
        </p:nvCxnSpPr>
        <p:spPr>
          <a:xfrm flipH="1" flipV="1">
            <a:off x="167760" y="1799640"/>
            <a:ext cx="38880" cy="446292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sp>
        <p:nvSpPr>
          <p:cNvPr id="198" name="Стрелка вниз 58"/>
          <p:cNvSpPr/>
          <p:nvPr/>
        </p:nvSpPr>
        <p:spPr>
          <a:xfrm>
            <a:off x="4781520" y="4119480"/>
            <a:ext cx="223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9ddf1"/>
          </a:solidFill>
          <a:ln w="25560">
            <a:solidFill>
              <a:srgbClr val="93a2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3d7a"/>
                </a:solidFill>
                <a:latin typeface="Times New Roman"/>
              </a:rPr>
              <a:t>Программа «эколайт» для предприятий по предоставлению отчетности  </a:t>
            </a:r>
            <a:br>
              <a:rPr sz="2800"/>
            </a:br>
            <a:r>
              <a:rPr b="0" lang="ru-RU" sz="2800" spc="-1" strike="noStrike">
                <a:solidFill>
                  <a:srgbClr val="2a3d7a"/>
                </a:solidFill>
                <a:latin typeface="Times New Roman"/>
              </a:rPr>
              <a:t>( </a:t>
            </a: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разработчик ООО «КомЭко»)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46C1-3B7A-419A-B390-EA56529B4E2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416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425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Отражение движения отходов при заполнении формы отчетности по отходам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D5F7-24D1-43F6-A2C9-96FF220D5CF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50920" y="1616040"/>
            <a:ext cx="868824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Анализ приема- передачи отходов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6F8A-E316-4283-BC83-55DE6BA30CB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978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Обращение отходов по территориям Пермского края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42B6-73B6-4A26-8B52-688F0878AB5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20760" y="1341360"/>
            <a:ext cx="87152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Обращение с отходами в разрезе организаций </a:t>
            </a:r>
            <a:br>
              <a:rPr sz="2400"/>
            </a:b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Пермского края (потоки)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642E-331D-4D15-8056-595BF077B9B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882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Общий вид выборки по территории (г. Пермь  по результатам 2011 года)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58ED-418C-4710-A5EC-5B5176C6876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4963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Механизм взаимодействия  с  органами местного самоуправления в сфере учета и обращения с отходами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4" name="Object 69"/>
          <p:cNvGraphicFramePr/>
          <p:nvPr/>
        </p:nvGraphicFramePr>
        <p:xfrm>
          <a:off x="4788000" y="1484280"/>
          <a:ext cx="57132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84280"/>
                    <a:ext cx="571320" cy="649440"/>
                  </a:xfrm>
                  <a:prstGeom prst="rect">
                    <a:avLst/>
                  </a:prstGeom>
                  <a:ln w="9360">
                    <a:solidFill>
                      <a:srgbClr val="5b5249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26" name="Группа 65"/>
          <p:cNvGrpSpPr/>
          <p:nvPr/>
        </p:nvGrpSpPr>
        <p:grpSpPr>
          <a:xfrm>
            <a:off x="4427640" y="2349360"/>
            <a:ext cx="1201680" cy="863640"/>
            <a:chOff x="4427640" y="2349360"/>
            <a:chExt cx="1201680" cy="863640"/>
          </a:xfrm>
        </p:grpSpPr>
        <p:graphicFrame>
          <p:nvGraphicFramePr>
            <p:cNvPr id="227" name="Object 6"/>
            <p:cNvGraphicFramePr/>
            <p:nvPr/>
          </p:nvGraphicFramePr>
          <p:xfrm>
            <a:off x="4780440" y="2552400"/>
            <a:ext cx="536040" cy="605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0440" y="2552400"/>
                      <a:ext cx="53604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37"/>
            <p:cNvGraphicFramePr/>
            <p:nvPr/>
          </p:nvGraphicFramePr>
          <p:xfrm>
            <a:off x="4427640" y="2349360"/>
            <a:ext cx="1201680" cy="86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3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27640" y="2349360"/>
                      <a:ext cx="120168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Box 81"/>
            <p:cNvSpPr/>
            <p:nvPr/>
          </p:nvSpPr>
          <p:spPr>
            <a:xfrm>
              <a:off x="4646520" y="2400120"/>
              <a:ext cx="84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5b5249"/>
                  </a:solidFill>
                  <a:latin typeface="Arial"/>
                </a:rPr>
                <a:t>Интернет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2" name="Text Box 8"/>
          <p:cNvSpPr/>
          <p:nvPr/>
        </p:nvSpPr>
        <p:spPr>
          <a:xfrm>
            <a:off x="6877080" y="5734080"/>
            <a:ext cx="66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РК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796000" y="1773360"/>
            <a:ext cx="2879640" cy="4972680"/>
          </a:xfrm>
          <a:prstGeom prst="rect">
            <a:avLst/>
          </a:prstGeom>
          <a:solidFill>
            <a:srgbClr val="cc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Инспекц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3886920" y="15573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граждан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768000" y="2637000"/>
            <a:ext cx="12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Сайт Инспекции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684360" y="1700280"/>
            <a:ext cx="2736720" cy="1191240"/>
          </a:xfrm>
          <a:prstGeom prst="rect">
            <a:avLst/>
          </a:prstGeom>
          <a:solidFill>
            <a:srgbClr val="ff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Органы местного самоуправлени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(муниципальные районы, городские округа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1116000" y="4292640"/>
            <a:ext cx="1655640" cy="641520"/>
          </a:xfrm>
          <a:prstGeom prst="rect">
            <a:avLst/>
          </a:prstGeom>
          <a:solidFill>
            <a:srgbClr val="ff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Ликвидация несанкционированных свалок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116000" y="3500280"/>
            <a:ext cx="1655640" cy="459000"/>
          </a:xfrm>
          <a:prstGeom prst="rect">
            <a:avLst/>
          </a:prstGeom>
          <a:solidFill>
            <a:srgbClr val="ff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Муниципальный контроль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6732720" y="4365720"/>
            <a:ext cx="1244520" cy="703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Карточка ОМ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Line 16"/>
          <p:cNvSpPr/>
          <p:nvPr/>
        </p:nvSpPr>
        <p:spPr>
          <a:xfrm flipH="1">
            <a:off x="394920" y="2421000"/>
            <a:ext cx="28908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395280" y="2421000"/>
            <a:ext cx="0" cy="21603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395280" y="4581360"/>
            <a:ext cx="72072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395280" y="3716280"/>
            <a:ext cx="72072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3936240" y="4005360"/>
            <a:ext cx="148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b5249"/>
                </a:solidFill>
                <a:latin typeface="Times New Roman"/>
              </a:rPr>
              <a:t>Результат рассмотрени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5b5249"/>
                </a:solidFill>
                <a:latin typeface="Times New Roman"/>
              </a:rPr>
              <a:t>обращений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7"/>
          <a:stretch/>
        </p:blipFill>
        <p:spPr>
          <a:xfrm>
            <a:off x="6659640" y="2924280"/>
            <a:ext cx="1530360" cy="112212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  <p:sp>
        <p:nvSpPr>
          <p:cNvPr id="246" name="Блок-схема: магнитный диск 59"/>
          <p:cNvSpPr/>
          <p:nvPr/>
        </p:nvSpPr>
        <p:spPr>
          <a:xfrm>
            <a:off x="6804000" y="5229360"/>
            <a:ext cx="1079640" cy="7189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7089120" y="55166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РКО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5076720" y="2133720"/>
            <a:ext cx="0" cy="287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5148360" y="3141720"/>
            <a:ext cx="647640" cy="647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5364000" y="1557360"/>
            <a:ext cx="1440000" cy="216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4716360" y="1557360"/>
            <a:ext cx="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Line 29"/>
          <p:cNvSpPr/>
          <p:nvPr/>
        </p:nvSpPr>
        <p:spPr>
          <a:xfrm flipH="1">
            <a:off x="3419280" y="1916280"/>
            <a:ext cx="1368360" cy="288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Line 30"/>
          <p:cNvSpPr/>
          <p:nvPr/>
        </p:nvSpPr>
        <p:spPr>
          <a:xfrm>
            <a:off x="2771640" y="3716280"/>
            <a:ext cx="792360" cy="649440"/>
          </a:xfrm>
          <a:prstGeom prst="line">
            <a:avLst/>
          </a:prstGeom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771640" y="4365720"/>
            <a:ext cx="792360" cy="28728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Line 32"/>
          <p:cNvSpPr/>
          <p:nvPr/>
        </p:nvSpPr>
        <p:spPr>
          <a:xfrm>
            <a:off x="3564000" y="4365720"/>
            <a:ext cx="2232000" cy="0"/>
          </a:xfrm>
          <a:prstGeom prst="line">
            <a:avLst/>
          </a:prstGeom>
          <a:ln w="316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Line 33"/>
          <p:cNvSpPr/>
          <p:nvPr/>
        </p:nvSpPr>
        <p:spPr>
          <a:xfrm flipV="1">
            <a:off x="7308720" y="5013360"/>
            <a:ext cx="0" cy="2160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Line 34"/>
          <p:cNvSpPr/>
          <p:nvPr/>
        </p:nvSpPr>
        <p:spPr>
          <a:xfrm>
            <a:off x="7667640" y="4076640"/>
            <a:ext cx="0" cy="28908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Line 35"/>
          <p:cNvSpPr/>
          <p:nvPr/>
        </p:nvSpPr>
        <p:spPr>
          <a:xfrm flipV="1">
            <a:off x="6877080" y="4076280"/>
            <a:ext cx="0" cy="28908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Line 36"/>
          <p:cNvSpPr/>
          <p:nvPr/>
        </p:nvSpPr>
        <p:spPr>
          <a:xfrm flipH="1" flipV="1">
            <a:off x="5363640" y="1989000"/>
            <a:ext cx="1295640" cy="136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3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A41F-7C6C-4F5F-A793-92CAB2AD320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564000" y="620640"/>
            <a:ext cx="2232000" cy="10087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Инвентаризация объектов размещения ТБ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2340000" y="5157720"/>
            <a:ext cx="4608360" cy="398880"/>
          </a:xfrm>
          <a:prstGeom prst="rect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Анализ информа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5796000" y="3213000"/>
            <a:ext cx="1584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5867280" y="3284640"/>
            <a:ext cx="158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ЗЕЛЕНЫ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780000" y="3213000"/>
            <a:ext cx="1584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51280" y="3284640"/>
            <a:ext cx="1584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ЖЕЛТЫ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619280" y="3213000"/>
            <a:ext cx="158436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1763640" y="3284640"/>
            <a:ext cx="1584360" cy="431640"/>
          </a:xfrm>
          <a:prstGeom prst="rect">
            <a:avLst/>
          </a:prstGeom>
          <a:solidFill>
            <a:srgbClr val="ff99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КРАСНЫ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830960" y="3933720"/>
            <a:ext cx="1453320" cy="398880"/>
          </a:xfrm>
          <a:prstGeom prst="rect">
            <a:avLst/>
          </a:prstGeom>
          <a:solidFill>
            <a:srgbClr val="f046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ликвидац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3840840" y="4005360"/>
            <a:ext cx="1654560" cy="398880"/>
          </a:xfrm>
          <a:prstGeom prst="rect">
            <a:avLst/>
          </a:prstGeom>
          <a:solidFill>
            <a:srgbClr val="f5f94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обустройств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1255680" y="760320"/>
            <a:ext cx="1598760" cy="398880"/>
          </a:xfrm>
          <a:prstGeom prst="rect">
            <a:avLst/>
          </a:prstGeom>
          <a:solidFill>
            <a:srgbClr val="12c81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Инспекц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6372360" y="692280"/>
            <a:ext cx="2323800" cy="703800"/>
          </a:xfrm>
          <a:prstGeom prst="rect">
            <a:avLst/>
          </a:prstGeom>
          <a:solidFill>
            <a:srgbClr val="fea8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Органы местного самоуправ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980800" y="2133720"/>
            <a:ext cx="3566880" cy="3988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Региональный кадастр отходо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2391120" y="2637000"/>
            <a:ext cx="4681080" cy="398880"/>
          </a:xfrm>
          <a:prstGeom prst="rect">
            <a:avLst/>
          </a:prstGeom>
          <a:solidFill>
            <a:srgbClr val="e9eecc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Категории объектов размещения отходо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6152760" y="4005360"/>
            <a:ext cx="1642320" cy="398880"/>
          </a:xfrm>
          <a:prstGeom prst="rect">
            <a:avLst/>
          </a:prstGeom>
          <a:solidFill>
            <a:srgbClr val="98f69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эксплуатац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Line 17"/>
          <p:cNvSpPr/>
          <p:nvPr/>
        </p:nvSpPr>
        <p:spPr>
          <a:xfrm>
            <a:off x="4716360" y="1557360"/>
            <a:ext cx="0" cy="5763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Line 18"/>
          <p:cNvSpPr/>
          <p:nvPr/>
        </p:nvSpPr>
        <p:spPr>
          <a:xfrm>
            <a:off x="4643280" y="2492280"/>
            <a:ext cx="0" cy="1447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Line 19"/>
          <p:cNvSpPr/>
          <p:nvPr/>
        </p:nvSpPr>
        <p:spPr>
          <a:xfrm>
            <a:off x="2556000" y="2997360"/>
            <a:ext cx="0" cy="287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4643280" y="2997360"/>
            <a:ext cx="0" cy="287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Line 21"/>
          <p:cNvSpPr/>
          <p:nvPr/>
        </p:nvSpPr>
        <p:spPr>
          <a:xfrm>
            <a:off x="6588000" y="2997360"/>
            <a:ext cx="0" cy="287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Line 22"/>
          <p:cNvSpPr/>
          <p:nvPr/>
        </p:nvSpPr>
        <p:spPr>
          <a:xfrm>
            <a:off x="2484360" y="3716280"/>
            <a:ext cx="0" cy="21744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4673520" y="3716280"/>
            <a:ext cx="0" cy="2890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6732720" y="3716280"/>
            <a:ext cx="0" cy="2890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Line 25"/>
          <p:cNvSpPr/>
          <p:nvPr/>
        </p:nvSpPr>
        <p:spPr>
          <a:xfrm>
            <a:off x="2840040" y="907920"/>
            <a:ext cx="72396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Line 26"/>
          <p:cNvSpPr/>
          <p:nvPr/>
        </p:nvSpPr>
        <p:spPr>
          <a:xfrm flipH="1">
            <a:off x="5795640" y="907920"/>
            <a:ext cx="57636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Line 27"/>
          <p:cNvSpPr/>
          <p:nvPr/>
        </p:nvSpPr>
        <p:spPr>
          <a:xfrm flipH="1">
            <a:off x="684000" y="5373720"/>
            <a:ext cx="1655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Line 28"/>
          <p:cNvSpPr/>
          <p:nvPr/>
        </p:nvSpPr>
        <p:spPr>
          <a:xfrm>
            <a:off x="6948360" y="5300640"/>
            <a:ext cx="151128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Line 29"/>
          <p:cNvSpPr/>
          <p:nvPr/>
        </p:nvSpPr>
        <p:spPr>
          <a:xfrm flipV="1">
            <a:off x="8459640" y="1341360"/>
            <a:ext cx="0" cy="3959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Line 31"/>
          <p:cNvSpPr/>
          <p:nvPr/>
        </p:nvSpPr>
        <p:spPr>
          <a:xfrm>
            <a:off x="646200" y="907920"/>
            <a:ext cx="62208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Line 32"/>
          <p:cNvSpPr/>
          <p:nvPr/>
        </p:nvSpPr>
        <p:spPr>
          <a:xfrm>
            <a:off x="2639880" y="4292640"/>
            <a:ext cx="0" cy="8650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Line 33"/>
          <p:cNvSpPr/>
          <p:nvPr/>
        </p:nvSpPr>
        <p:spPr>
          <a:xfrm>
            <a:off x="4699080" y="4365720"/>
            <a:ext cx="0" cy="79200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Line 34"/>
          <p:cNvSpPr/>
          <p:nvPr/>
        </p:nvSpPr>
        <p:spPr>
          <a:xfrm>
            <a:off x="6727680" y="4365720"/>
            <a:ext cx="0" cy="79200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Line 35"/>
          <p:cNvSpPr/>
          <p:nvPr/>
        </p:nvSpPr>
        <p:spPr>
          <a:xfrm flipH="1" flipV="1">
            <a:off x="673200" y="914400"/>
            <a:ext cx="25200" cy="44704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08F5-8514-41BB-9491-BDB4036FA5A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404720"/>
            <a:ext cx="312408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Масса образовавшихся отходов производства и потребления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96" name="Picture 3" descr="отход_2_а"/>
          <p:cNvPicPr/>
          <p:nvPr/>
        </p:nvPicPr>
        <p:blipFill>
          <a:blip r:embed="rId1"/>
          <a:stretch/>
        </p:blipFill>
        <p:spPr>
          <a:xfrm>
            <a:off x="4287960" y="0"/>
            <a:ext cx="485604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4"/>
          <p:cNvSpPr/>
          <p:nvPr/>
        </p:nvSpPr>
        <p:spPr>
          <a:xfrm>
            <a:off x="0" y="0"/>
            <a:ext cx="884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Результаты использования информации банка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данных отходо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F2B5-1FC5-4F69-A9D9-3AE31EC6AFC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РЕГИОНАЛЬНЫЙ КАДАСТР ОТХОДОВ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Органы исполнительной власти субъекта Российской Федерации вправе вести региональные кадастры отходов, включающие в себя данные, представляемые органами местного самоуправления, а также юридическими лицами, осуществляющими деятельность по обращению с отходами. Порядок ведения региональных кадастров отходов определяется органами исполнительной власти субъектов Российской Федераци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2e2925"/>
                </a:solidFill>
                <a:latin typeface="Times New Roman"/>
              </a:rPr>
              <a:t>Статья 20 Федеральный закон  от 24 июня 1998 № 89-ФЗ «Об отходах производства и потребления» 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925"/>
                </a:solidFill>
                <a:latin typeface="Times New Roman"/>
              </a:rPr>
              <a:t>Постановление Правительства Пермского края от 02.11.2007 № 251-п «О мероприятиях по ведению регионального кадастра отходов производства и потребления»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Информация об обращении с отходами на сайте Инспекции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00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5C13-33FC-424E-B10C-17BE6A331D9E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588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2E09-D700-4929-9E67-114109CA5E9C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47640" y="482400"/>
            <a:ext cx="81914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0404"/>
                </a:solidFill>
                <a:latin typeface="Times New Roman"/>
              </a:rPr>
              <a:t>Коэффициент экологической ситуации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82760" y="1225440"/>
            <a:ext cx="835632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j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э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  = КСАНнорм / КСАНср.норм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именяется при расчете межбюджетных трасфертов на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ю медицинского обеспечения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ю природоохранных мероприятий межпоселенческого характера</a:t>
            </a: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НСИ - ранг нагрузки на атмосферу от стационарных источников в j-ом муниципальном районе (городском округе)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НПИ  - ранг нагрузки на атмосферу от передвижных источников в j-м муниципальном районе (городском округе)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ТВ - ранг токсичности  выбросов в  j-м  муниципальном районе(городском округе)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НВ - ранг нагрузки на водные  объекты в  j-м  муниципальном районе (городском округе)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НП - ранг нагрузки  на почву  в j-м  муниципальном районе j (городском округе)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5F42-E4E9-434F-8946-D244F36E1A7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c0b"/>
                </a:solidFill>
                <a:latin typeface="Times New Roman"/>
              </a:rPr>
              <a:t>Значение коэффициента экологической ситуации по муниципальным образованиям Пермского края</a:t>
            </a:r>
            <a:r>
              <a:rPr b="1" lang="ru-RU" sz="2000" spc="-1" strike="noStrike">
                <a:solidFill>
                  <a:srgbClr val="0d0c0b"/>
                </a:solidFill>
                <a:latin typeface="Times New Roman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179280" y="1071720"/>
          <a:ext cx="873936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71720"/>
                    <a:ext cx="8739360" cy="55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B674-4F2B-4AFE-8B86-1223CCACF25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10b"/>
                </a:solidFill>
                <a:latin typeface="Times New Roman"/>
              </a:rPr>
              <a:t>Сравнительный анализ ранга территории края по сумме </a:t>
            </a:r>
            <a:r>
              <a:rPr b="1" lang="ru-RU" sz="1800" spc="-1" strike="noStrike">
                <a:solidFill>
                  <a:srgbClr val="03010b"/>
                </a:solidFill>
                <a:latin typeface="Times New Roman"/>
              </a:rPr>
              <a:t>показателей распространенности заболеваний, признанных ВОЗ индикаторными в отношении экологической ситуации  </a:t>
            </a:r>
            <a:r>
              <a:rPr b="0" lang="ru-RU" sz="1800" spc="-1" strike="noStrike">
                <a:solidFill>
                  <a:srgbClr val="03010b"/>
                </a:solidFill>
                <a:latin typeface="Times New Roman"/>
              </a:rPr>
              <a:t>и стоимости недопроизведенной продукции, затрат на лечение и социальные выплаты в случае заболевания.</a:t>
            </a:r>
            <a:endParaRPr b="0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71640" y="1844640"/>
          <a:ext cx="7412040" cy="4786200"/>
        </p:xfrm>
        <a:graphic>
          <a:graphicData uri="http://schemas.openxmlformats.org/drawingml/2006/table">
            <a:tbl>
              <a:tblPr/>
              <a:tblGrid>
                <a:gridCol w="390600"/>
                <a:gridCol w="1625400"/>
                <a:gridCol w="1600200"/>
                <a:gridCol w="1325520"/>
                <a:gridCol w="1235160"/>
                <a:gridCol w="1235160"/>
              </a:tblGrid>
              <a:tr h="118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Территория 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Стоимость медицинского обслуживания на 1 чел. в день, руб. /день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Стоимость социальных выплат на 1 человека,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руб./день 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Стоимость недопроизведен-ной продукции на 1 человека,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руб./день 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en-US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j</a:t>
                      </a: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эс  территории по уровню экообусловленной заболеваемости 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Соликамск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9,23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63,5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153,33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Краснокамск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4,86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67,19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913,03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Березники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5,16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68,6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867,06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Пермь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3,3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14,0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807,0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Чусовой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5,4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05,5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741,1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Лысьва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5,63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10,6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605,4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Александровск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78,71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24,9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Кунгур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9,26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91,14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12,3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Гремячинск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3,38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03,48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75,44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Кизел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1,8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66,24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56,6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Средний показатель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4,2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51,6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784,0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A87A-D07E-4D92-81E7-C58F6499771C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Ожидаемые результаты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1.      Создание системы управления отходами в Пермском крае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создание инфраструктуры перерабатывающих предприятий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создание системы сбора и переработки вторичных ресурсов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управление отходами на территориях муниципальных образований края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ликвидация несанкционированных объектов размещения отходов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2.    Осуществление государственного  контроля  за деятельностью в области обращения с отходами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контроль за выполнением экологических требований (государственный экологический контроль) в области обращения с отходами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контроль за соблюдением требований предупреждения и ликвидации чрезвычайных ситуаций, возникающих при обращении с отходами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контроль за соблюдением требований и правил транспортирования опасных отходов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контроль за выполнением мероприятий по уменьшению количества отходов и вовлечению отходов в хозяйственный оборот в качестве дополнительных источников сырья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контроль за достоверностью предоставляемой информации в области обращения с отходами и отчетности об отходах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выявление нарушений законодательства в области обращения с отходами и контроль за принятием мер по устранению таких нарушений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привлечение в установленном порядке индивидуальных предпринимателей и юридических лиц к ответственности за нарушение законодательства в области обращения с отходами, применение штрафных санкций, предъявление исков о возмещении ущерба, причиненного окружающей среде и здоровью человека в результате нарушения законодательства в области обращения с отходами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Оценка антропогенной нагрузки на территории края при размещении отходов производства и потребления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СПАСИБ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ЗА ВНИМАНИЕ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E704-A2F7-42D8-ADBC-046F6B6E24CD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9138-F638-4833-A010-55BA4173D7A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2900" spc="-1" strike="noStrike">
                <a:solidFill>
                  <a:srgbClr val="5b5249"/>
                </a:solidFill>
                <a:latin typeface="Times New Roman"/>
              </a:rPr>
              <a:t>Региональный кадастр отходов Пермского края</a:t>
            </a: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 представляет собой систематизированный свод нормативных </a:t>
            </a:r>
            <a:r>
              <a:rPr b="0" i="1" lang="ru-RU" sz="2900" spc="-1" strike="noStrike">
                <a:solidFill>
                  <a:srgbClr val="5b5249"/>
                </a:solidFill>
                <a:latin typeface="Times New Roman"/>
              </a:rPr>
              <a:t>актов/документов</a:t>
            </a: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 и информационных баз данных.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Региональный кадастр отходов состоит из следующих разделов: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26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региональный каталог отходов;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26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региональный реестр объектов размещения отходов;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26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региональный реестр объектов использования и обезвреживания отходов;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26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5b5249"/>
                </a:solidFill>
                <a:latin typeface="Times New Roman"/>
              </a:rPr>
              <a:t>региональный банк данных об отходах.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D57D-B479-4B7F-B53D-CB512F19AB94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Сведения, содержащиеся в Региональном кадастре отходов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08344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 видах отходов, с которыми осуществляется обращение на территории Пермского края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 характеристиках и опасных свойствах видов отходов, с которыми осуществляется обращение на территории Пермского края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б объектах размещения отходов, расположенных на территории Пермского края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б объектах использования и обезвреживания отходов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 нормативах образования отходов, установленных лимитах на размещение отходов и предельных объемах накопления отходов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 фактических количественных данных по образованию, приему-передаче, использованию, обезвреживанию и размещению отходов на территории Пермского кра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BE9C-B33D-417A-9E75-DAF476DBFAD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Источники сведений, включаемых </a:t>
            </a:r>
            <a:br>
              <a:rPr sz="3000"/>
            </a:b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в региональный кадастр отходов</a:t>
            </a:r>
            <a:br>
              <a:rPr sz="3000"/>
            </a:b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документированная информация по обращению с отходами, представляемая в установленном порядке в Государственную инспекцию и в Росприроднадзор по Пермскому краю (далее - органы государственного экологического контроля) в процессе исполнения ими установленных полномочий в области регулирования обращения с отходами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документированная информация, формируемая организациями, осуществляющими специальные исследования и обследования на территории Пермского края с целью получения дополнительной информации по обращению с отходами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информационные ресурсы, формируемые органами государственного экологического контроля в рамках реализации своих полномочий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F745-3FA4-4C5E-AB1A-C3A2DD41C30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Региональный каталог отходов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7" name="Объект 6"/>
          <p:cNvGraphicFramePr/>
          <p:nvPr/>
        </p:nvGraphicFramePr>
        <p:xfrm>
          <a:off x="5219640" y="1052640"/>
          <a:ext cx="374508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052640"/>
                    <a:ext cx="37450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12"/>
          <p:cNvSpPr/>
          <p:nvPr/>
        </p:nvSpPr>
        <p:spPr>
          <a:xfrm>
            <a:off x="395280" y="907920"/>
            <a:ext cx="482436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925"/>
                </a:solidFill>
                <a:latin typeface="Times New Roman"/>
              </a:rPr>
              <a:t>Региональный каталог отходов </a:t>
            </a: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представляет собой систематизированный перечень видов отходов, с которыми обращаются в пределах Пермского края, содержащий сведения о составе и свойствах этих отходов, а также ограничения и запреты по обращению с этими отходами на территории Пермского кра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Региональный Каталог отходов Пермского края утвержден, приказом начальника Государственной инспекции по экологии и природопользованию Пермского края от 22.05.2009 № СЭД-36-01-05-4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Группы и подгруппы в Каталогу сформированы по отраслевому принципу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Всего в БД более 760 видов отходов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77B-479F-4635-A239-2BD7958831E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Реестр объектов размещения отходов Пермского края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892800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Региональный реестр объектов размещения </a:t>
            </a:r>
            <a:r>
              <a:rPr b="0" lang="ru-RU" sz="2400" spc="-1" strike="noStrike">
                <a:solidFill>
                  <a:srgbClr val="2e2925"/>
                </a:solidFill>
                <a:latin typeface="Times New Roman"/>
              </a:rPr>
              <a:t>отходов представляет собой систематизированный свод документированных сведений о расположенных на территории Пермского края объектах размещения отходов (о местоположении, целевом назначении, правовом положении объектов, их состоянии, наличии размещенных отходов), формируемых в результате проведения учета объектов размещения отходов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925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2e2925"/>
                </a:solidFill>
                <a:latin typeface="Times New Roman"/>
              </a:rPr>
              <a:t>Инвентаризация объектов размещения отходов </a:t>
            </a:r>
            <a:r>
              <a:rPr b="0" lang="ru-RU" sz="1800" spc="-1" strike="noStrike">
                <a:solidFill>
                  <a:srgbClr val="2e2925"/>
                </a:solidFill>
                <a:latin typeface="Times New Roman"/>
              </a:rPr>
              <a:t>(далее - инвентаризация) проводится в целях получения достоверной информации о размещении отходов производства и потребления на этих объектах, для установления лимитов на размещение отходов (юридическим лицам и индивидуальным предпринимателям, размещающим отходы на данных объектах), сбора данных для ведения регионального реестра объектов размещения отходов как части регионального кадастра отходов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925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e2925"/>
                </a:solidFill>
                <a:latin typeface="Times New Roman"/>
              </a:rPr>
              <a:t>Приказ ГИООС от 18.08.2008 СЭД-36-01-04-14 «Об утверждении Правил инвентаризации объектов размещения отходов»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557360"/>
            <a:ext cx="4897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егиональный реестр объектов использования и обезвреживания отходов 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- систематизированный свод документированных сведений о расположенных на территории Пермского края существующих объектах использования и обезвреживания отходов, содержащий информацию об их местоположении, назначении, состоянии и наименовании отходов, которые могут быть использованы или обезврежены на данном объекте, формируемый в результате проведения учета объектов использования и 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езвреживания отходов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e0d0c"/>
                </a:solidFill>
                <a:latin typeface="Times New Roman"/>
              </a:rPr>
              <a:t>Перечень переработчиков отходов размещается ежегодно на сайте Инспекции 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www.gioos.ru</a:t>
            </a:r>
            <a:r>
              <a:rPr b="0" lang="en-US" sz="1600" spc="-1" strike="noStrike">
                <a:solidFill>
                  <a:srgbClr val="3313d5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Номер слайда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31BA-D9AB-4456-8AC9-B7099D175CB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65" name="Объект 5"/>
          <p:cNvGraphicFramePr/>
          <p:nvPr/>
        </p:nvGraphicFramePr>
        <p:xfrm>
          <a:off x="5219640" y="1125360"/>
          <a:ext cx="3581640" cy="5472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6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1125360"/>
                    <a:ext cx="358164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Региональный реестр объектов использования и обезвреживания отходов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F2F6-2C13-40AD-8D7E-6AA40FD67A4A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Региональный банк данных отходов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Региональный банк данных об отходах </a:t>
            </a:r>
            <a:r>
              <a:rPr b="0" lang="ru-RU" sz="2800" spc="-1" strike="noStrike">
                <a:solidFill>
                  <a:srgbClr val="2e2925"/>
                </a:solidFill>
                <a:latin typeface="Times New Roman"/>
              </a:rPr>
              <a:t>- систематизированный свод документированных сведений, получаемых в результате ведения учета видов отходов, с которыми обращаются на территории Пермского края, и учета количественных данных об обращении с этими видами отход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29:03Z</dcterms:created>
  <dc:creator>user</dc:creator>
  <dc:description/>
  <dc:language>en-US</dc:language>
  <cp:lastModifiedBy>Лазепный Вадим Григорьевич</cp:lastModifiedBy>
  <cp:lastPrinted>2013-03-11T09:36:25Z</cp:lastPrinted>
  <dcterms:modified xsi:type="dcterms:W3CDTF">2013-03-12T03:32:39Z</dcterms:modified>
  <cp:revision>490</cp:revision>
  <dc:subject/>
  <dc:title>Основная задача</dc:title>
</cp:coreProperties>
</file>